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675-9AD0-4ECD-84FD-CC344ECCCC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F49-7948-41C9-AD98-CC16A282C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D2E0-F5F1-436A-B022-A130A8292F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B5E8-A94C-4CE5-9269-F2759CE30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8EC-F15E-420D-8453-E31E51457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1B9-7680-4B76-990C-8918E00A7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272-E446-416A-8372-E3F6A0E29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557-9380-4795-9C1A-AB0F3019C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A138-20F1-410C-9436-46D3956EB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ACB-166F-4E7A-9FC4-4A24E8B5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5D7-31A5-413E-AEBF-5A400E7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C52-6C07-40C9-AD18-C41AEF47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7EC-9135-4EA6-9175-ACF41E86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0967-5C95-483E-AD06-3CB3DA3A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482D-4755-45C4-9A37-6F96B47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75A7-0672-4E3F-AD31-19D7954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934-A02C-4B18-BDF8-0F0313D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363-C3F6-4C0A-B623-D2245B8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4F6-57C5-47F7-A98A-42BC887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4CBE-861D-4B97-97A4-060F12A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3A0-28CB-40AF-BAC7-44712D6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2549-7B6B-47C0-96FD-F11D8075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DFD3-2608-44A4-A5D3-3BE43B6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6D94-F83F-42D3-9242-0B0E983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AE2-09DF-40CF-A2BD-3551374D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847-B613-4E7D-8CF6-3B05CDE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60E-90AC-490E-BC44-96CFC6DF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782-7854-4FFF-82E3-015C93B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6D0-68EA-46DC-B378-EFE6669B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8D2-33AB-4C00-BCA7-564BB48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FCD-9B6F-49B5-B307-96256EE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7E5-C4E1-4883-B25E-8A34577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255-29B4-4F83-816C-B4E6CDD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93B-B933-4EA2-A548-745E2A1FB17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3458-C82B-4D56-BD40-F2C3577964D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E4A4-5C1D-4787-B4DC-C7A8702E04A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作業中のフォル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84C7-81CB-4F19-8CED-CAC3185C91B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フォルダ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ED9D-E8B1-49FB-A4AD-AB15D5F05E8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1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赤丸の部分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記述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EA3-F2C9-47E2-8087-4B951BC8F74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4006080" y="4178160"/>
            <a:ext cx="451476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例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下の手順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.vhd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1FDD-A9BA-499D-A154-09C78564C97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6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の追加（同じ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FAF-9715-457C-8729-4009B831F15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3" name="テキスト ボックス 7"/>
          <p:cNvSpPr/>
          <p:nvPr/>
        </p:nvSpPr>
        <p:spPr>
          <a:xfrm>
            <a:off x="76320" y="4114800"/>
            <a:ext cx="55623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_vector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複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さらに編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D51-39F4-4F15-90FD-BDC62FFC33B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5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C5E-F44C-4F63-9C5A-DBDA8C6DAF1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5067360" y="4776840"/>
            <a:ext cx="1942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回路記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5D5-84FD-4A79-A741-1D1BCD194CA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existing 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チェックし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61CD-CCA2-4A3B-894E-F784BEB8C37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4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6095880" y="3733920"/>
            <a:ext cx="1295640" cy="11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作った名前を選択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、右上図が出ます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0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EEB-8213-4911-A13D-D24C764F6BB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4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主な流れ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てんぷ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930-65C7-427C-A33C-80D3D09A7B2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85B2-AD49-49C3-89DF-5485C88B875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4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Periphral Analysis Order file (*pao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チェ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cores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v1_00_a/data/PA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ファイルを選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EAB-8265-4C52-96B1-C5BB135CB8B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そのま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書き換えたファイルの文法チェックが始まり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失敗するとエラーが表示され、どこが悪いのか指摘してくれ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精度が悪い（一つのミスで何個もエラーが表示されることがある）のでできるだけ丁寧に書き換えを行っ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24B-6714-4D93-90D3-7BA7E75493E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1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4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B1C-A429-4BD9-9F1F-0E3E7E6E513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determine high adres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HIGHADD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C51A-70F0-422B-A4AA-4C9FF8E9478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3AEC-D919-4E83-B558-13676BFF5DF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A0C0-02B1-41AF-8A57-9185874D25B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更新され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表示され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41D6-8ECD-407C-9097-4197F2793B4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289D-AB23-4908-954B-907B418065C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テキスト ボックス 11"/>
          <p:cNvSpPr/>
          <p:nvPr/>
        </p:nvSpPr>
        <p:spPr>
          <a:xfrm>
            <a:off x="944640" y="1515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テキスト ボックス 12"/>
          <p:cNvSpPr/>
          <p:nvPr/>
        </p:nvSpPr>
        <p:spPr>
          <a:xfrm>
            <a:off x="795960" y="3144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0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D41C-AB35-4E5A-907F-E6A552DDC4E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テキスト ボックス 12"/>
          <p:cNvSpPr/>
          <p:nvPr/>
        </p:nvSpPr>
        <p:spPr>
          <a:xfrm>
            <a:off x="577800" y="1687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299920" y="3803760"/>
            <a:ext cx="220140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回路記述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11CD-8BCA-476C-B104-C29E7836718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8F4-49AA-497A-BA22-6B5CAA2BA7B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550960"/>
            <a:ext cx="4457520" cy="3875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====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名前を入力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055A-DCF3-43C1-8C20-669E389330E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514600"/>
            <a:ext cx="4470480" cy="38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52280" y="38098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8001000" y="607392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029200" y="32004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581280" y="61977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-4Li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赤丸のチェックをつけて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10B8-3579-4503-ADFC-EB37ADEFB22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（必要な項目はチェッ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AE4-2779-4BAD-9C8F-C09F0612B2B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lo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書く場合は一番上を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AF8-558E-478F-9EA4-3A91BAD1E4E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50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9CA2-2A61-4CE0-82D5-0E369C30DA5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dcterms:modified xsi:type="dcterms:W3CDTF">2012-11-20T08:42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