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AFCD-4DC6-4036-8D53-46BDB3EFDC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B396-2B66-4B6D-94C4-AB5A156C0D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67AD-6E73-4041-8FF2-B29A9C8FA0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EAC2-BC47-4939-B9D2-2B1430B776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67E3-DFE8-4D90-A525-0F8E888263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7018-525E-4664-9BBE-84637A124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7F4D-15A8-434E-943B-3154146701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41AD-8ED6-4499-B321-8FBEAFEDA3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6356-867C-4364-A48A-6D17B1213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011-2E57-44A9-A224-F994753B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344-C584-4653-AEA8-3F4D04CE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F15-F416-4AFF-8B33-1E410561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588-5C35-4C51-9DFD-E7446C29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AFC5-4B76-489C-8291-631A09BB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4F19-6EE0-4832-BDAE-061E123E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300B-C68B-4822-BC92-FABC85CD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F4E7-B5DC-4A70-9CE4-94A2A6FB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ABA5-B582-4206-94C6-F6FEDFDF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9687-45D1-41D7-A1EA-8E0D94D1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A7E7-72C8-444A-BF1D-68DFE21A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A2D-8D1C-43F3-87F4-6D65AE3A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2AA7-89DA-431C-9C0B-735BB46F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C6AA-A02B-4139-9299-FAA448DC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B750-9802-4227-AE23-C7E00E98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540D-F62E-4367-B04D-453DF65B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F9B6-01CA-4746-81E2-D2030673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4A5-9D0B-4276-A333-7B081C71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C15-D744-4674-9F29-1DB9FE7F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92F-1BC1-4CDC-8F35-15A22A71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53A-B3F8-4C1F-ACAC-F1DF80CC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E07-8DB6-464F-AD91-5AEC35CF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2CE-4BB0-4A76-874F-FACBD11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E96-C384-4EC2-842C-3EBB0EC5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421E-2614-48DE-9BBD-A66DC95CC3E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C3C9-375D-42D7-9670-FD21B44B96C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C6C6-F3EE-4F53-BC03-AC4B4A9CB96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folder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3A0B-2D64-4AA0-A244-1EA25B162FB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MPD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folder\pcores\test_v1_00_a\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DDC6-513D-4EC6-B5C5-22DB96DC4BA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480" y="152352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nput or output information within red fr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602-B78D-4C9B-8E35-797806DAB88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3830760" y="4178160"/>
            <a:ext cx="522252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Signal Name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D500-40F1-4689-87C1-1990C4695C7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5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テキスト ボックス 1"/>
          <p:cNvSpPr/>
          <p:nvPr/>
        </p:nvSpPr>
        <p:spPr>
          <a:xfrm>
            <a:off x="662040" y="4205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テキスト ボックス 12"/>
          <p:cNvSpPr/>
          <p:nvPr/>
        </p:nvSpPr>
        <p:spPr>
          <a:xfrm>
            <a:off x="2438280" y="484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テキスト ボックス 13"/>
          <p:cNvSpPr/>
          <p:nvPr/>
        </p:nvSpPr>
        <p:spPr>
          <a:xfrm>
            <a:off x="4202280" y="574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VHD file(.vhd)in the following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signal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conte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CD79-9BBF-449F-98FD-AF9FAF2E290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6" name="テキスト ボックス 7"/>
          <p:cNvSpPr/>
          <p:nvPr/>
        </p:nvSpPr>
        <p:spPr>
          <a:xfrm>
            <a:off x="76320" y="4114800"/>
            <a:ext cx="63705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_vector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Multiple 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0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35AA-6912-4231-A606-78E1AD798A4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=&gt; Signal Name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8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8551-68C5-4F60-BA71-A6E8F242918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テキスト ボックス 7"/>
          <p:cNvSpPr/>
          <p:nvPr/>
        </p:nvSpPr>
        <p:spPr>
          <a:xfrm>
            <a:off x="4952880" y="4792680"/>
            <a:ext cx="2629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uit Descrip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D9AB-DF73-41AD-BF61-B58E69CC95E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583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mport existing peripheral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2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C08F-33D4-4544-BB8F-81B29FEC1EA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6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6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9" name="Oval 10"/>
          <p:cNvSpPr/>
          <p:nvPr/>
        </p:nvSpPr>
        <p:spPr>
          <a:xfrm>
            <a:off x="6095880" y="3848040"/>
            <a:ext cx="1295640" cy="114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2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3B9F-6168-4F93-BD84-03FE47A3D5A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6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160" y="1279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Left figure, Select the name which you mak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, and Click the Next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right figure is displayed on the screen, and Click the yes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The Main Flow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C2B0-45B6-4355-AAE0-9C611D125A5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828E-8C63-4DFE-895A-362932E31F1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7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Use existing Periphral Analysis Order file (*pa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\your working folder/pcores/Name_v1_00_a/data/PAO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7F14-7315-4218-856A-352D3B023C3F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4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3DF5-3FEA-4858-ABE1-005B68E1285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3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, and the grammar of renewed file will be che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ailed, errors are displayed on the screen. It points out where you make errors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lecting Slave of 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,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7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926D-CE0D-4F82-B88D-4D1E9C00D91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Selecting C_HIGHADDR of Parameter determine high adress,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5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4243-BFA8-41E1-9383-CB1A4A6F6A3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315F-DEFC-4C31-BCF9-E70376E8F1A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83B7-761C-482B-8B6A-EBF0CBD6D7F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6C2D-DA12-4EDF-9B43-8C8C7028A18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IP is displayed on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C54C-189A-45F2-AD18-CFA2F25EAB5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テキスト ボックス 11"/>
          <p:cNvSpPr/>
          <p:nvPr/>
        </p:nvSpPr>
        <p:spPr>
          <a:xfrm>
            <a:off x="715320" y="150984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テキスト ボックス 12"/>
          <p:cNvSpPr/>
          <p:nvPr/>
        </p:nvSpPr>
        <p:spPr>
          <a:xfrm>
            <a:off x="716400" y="31449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1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273C-D896-4A45-BC72-904EE3D68D9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58720" y="16876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テキスト ボックス 12"/>
          <p:cNvSpPr/>
          <p:nvPr/>
        </p:nvSpPr>
        <p:spPr>
          <a:xfrm>
            <a:off x="5241240" y="3803760"/>
            <a:ext cx="231876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 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ircuit Descrip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1942-479A-4F9F-AEB5-4C6E0FE769B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E25B-1EC8-494C-B072-207A0A19A43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743200"/>
            <a:ext cx="4457520" cy="3683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an XPS project and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the name of the peripheral and 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92ED-D61A-41D8-ADD5-8514DB8D23F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743200"/>
            <a:ext cx="447048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28520" y="402264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7975440" y="6137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800600" y="3429000"/>
            <a:ext cx="9144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429000" y="6083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7896-99C9-497B-9A7E-DDBB34E50C6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5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XI-4Lite and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nclude data phase timer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2632-44C9-4400-83DD-BBD98ACAC11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A643-7DCB-46AD-8F65-E4876F3335F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49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rite a program using Verilog, Check the top Check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AE2D-B2A4-4907-9761-6314E2CF67E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cp:lastPrinted>2012-09-28T04:19:07Z</cp:lastPrinted>
  <dcterms:modified xsi:type="dcterms:W3CDTF">2012-11-20T08:43:31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