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C514-E5FA-4E52-B7D0-35AF5EDDC2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C0EA-9B18-4C0F-B0FF-1E7AC9F479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A87A-A9BF-42EC-AFB8-DA134B8D95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4E9F-5E3A-40AF-A1BD-4C2F657654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F736-CCF8-4DC8-89CA-0EF7613000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E4BC-6A5B-4ACF-8888-7D32919992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D64C-B0D5-436E-B0F3-F5C0F4CCFE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3C3C-460C-4647-88EE-F9F035AEF9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A2F2-D4A7-40D7-AF8B-C3C50E0444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241D-986F-403F-B5C3-125973BB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6823-34D9-4A55-858B-B2E5B3F7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C090-88C8-4DEA-BE96-F767B048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868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20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868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20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E6A0-479C-4663-AACE-6E8D34BE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1BCF-4D80-41DC-B782-548DCF1A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9754-6219-4C0E-9386-BC6D4CDE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8DE4-4E53-4168-B02C-EB6C1567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199E-BAFB-4568-974C-8ED094EE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5646-9B48-427E-8BD4-8A301B77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410760"/>
            <a:ext cx="79948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5B39-2C92-4010-A08E-1B8C1063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A9DE-ACD7-4978-B4A9-D96306E6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D9F-8DC4-48E0-9C0B-0372799B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44A2-A2DF-4A8D-BB66-ED2807BD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934F-5542-4783-9340-49CD78B3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82EB-0D28-4F49-B0DF-F85CECB7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3974-7505-4DE2-8239-B7A77E91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868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20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16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868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20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9241-438E-4D30-9AD7-960243FE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659C-2A46-40D5-B288-9B4D80ED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AE4-F09B-479A-BAB2-F20A5770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EBCB-9FD4-4E6F-B09C-1F03905C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410760"/>
            <a:ext cx="79948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DD5-C997-4542-BF6D-C98D510F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CB53-7384-4ED4-A865-67FCD322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5DD-2503-458B-99C6-35DCB3FD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7A56-DDDD-4A64-B66D-949A4AF4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hyperlink" Target="http://jimu-www.jimu.kyutech.ac.jp/gakunai/img_date/picture/logomark_E1.gif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6308280"/>
            <a:ext cx="381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58F7-D790-4AD7-9AEE-CAF4C38524D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912960" y="1066680"/>
            <a:ext cx="8231040" cy="381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6" name="Picture 8" descr="MPEGimage"/>
          <p:cNvPicPr/>
          <p:nvPr/>
        </p:nvPicPr>
        <p:blipFill>
          <a:blip r:embed="rId3"/>
          <a:stretch/>
        </p:blipFill>
        <p:spPr>
          <a:xfrm>
            <a:off x="7810560" y="0"/>
            <a:ext cx="1333440" cy="11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912960" y="2057400"/>
            <a:ext cx="8231040" cy="380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logo_s"/>
          <p:cNvPicPr/>
          <p:nvPr/>
        </p:nvPicPr>
        <p:blipFill>
          <a:blip r:embed="rId3"/>
          <a:stretch/>
        </p:blipFill>
        <p:spPr>
          <a:xfrm>
            <a:off x="7524720" y="5300640"/>
            <a:ext cx="1428840" cy="1362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logomark_E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5661000"/>
            <a:ext cx="1141560" cy="1023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41768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13592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E734-7DC8-4A7F-9BA6-E598767EF51C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13592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63F0-CBE7-4591-A15B-F173DA6A47F0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1360" y="850680"/>
            <a:ext cx="772128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and Import Peripheral</a:t>
            </a:r>
            <a:br>
              <a:rPr sz="3600"/>
            </a:b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For Microblaze</a:t>
            </a: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ver AXI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Sept /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aru Hi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520" y="14950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作業中のフォル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pcores\test_v1_00_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図 1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211800" cy="41911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6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F7BB-B39F-47E9-BA6D-04A50A716FBE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10"/>
          <p:cNvSpPr/>
          <p:nvPr/>
        </p:nvSpPr>
        <p:spPr>
          <a:xfrm>
            <a:off x="2895480" y="327672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ファイルを開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フォルダ名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F:\document\LSI_CONTEST\ペリフェラル\ペリフェラル作成15.png"/>
          <p:cNvPicPr/>
          <p:nvPr/>
        </p:nvPicPr>
        <p:blipFill>
          <a:blip r:embed="rId1"/>
          <a:stretch/>
        </p:blipFill>
        <p:spPr>
          <a:xfrm>
            <a:off x="1227240" y="2590920"/>
            <a:ext cx="6400800" cy="39560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6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FB97-FFFE-48C6-8C43-A8D70FBB5041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3048120" y="3754440"/>
            <a:ext cx="12952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0912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赤丸の部分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, outpu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記述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0" descr="F:\document\LSI_CONTEST\ペリフェラル\ペリフェラル作成16.png"/>
          <p:cNvPicPr/>
          <p:nvPr/>
        </p:nvPicPr>
        <p:blipFill>
          <a:blip r:embed="rId1"/>
          <a:stretch/>
        </p:blipFill>
        <p:spPr>
          <a:xfrm>
            <a:off x="385920" y="2070000"/>
            <a:ext cx="5027400" cy="4546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73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E8DA-60AA-4408-8208-0C9AEB0B095D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685800" y="4267080"/>
            <a:ext cx="167652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右矢印 2"/>
          <p:cNvSpPr/>
          <p:nvPr/>
        </p:nvSpPr>
        <p:spPr>
          <a:xfrm>
            <a:off x="2506680" y="4202280"/>
            <a:ext cx="1150920" cy="304560"/>
          </a:xfrm>
          <a:prstGeom prst="rightArrow">
            <a:avLst>
              <a:gd name="adj1" fmla="val 50000"/>
              <a:gd name="adj2" fmla="val 50071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テキスト ボックス 5"/>
          <p:cNvSpPr/>
          <p:nvPr/>
        </p:nvSpPr>
        <p:spPr>
          <a:xfrm>
            <a:off x="4006080" y="4178160"/>
            <a:ext cx="451476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“”, DIR = I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 O, VEC = [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ビット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（例）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 cnt_num = "", DIR = O, VEC = [0:31]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2524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下の手順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HD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ファイ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.vhd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開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3" descr="F:\document\LSI_CONTEST\ペリフェラル\ペリフェラル作成14.png"/>
          <p:cNvPicPr/>
          <p:nvPr/>
        </p:nvPicPr>
        <p:blipFill>
          <a:blip r:embed="rId1"/>
          <a:stretch/>
        </p:blipFill>
        <p:spPr>
          <a:xfrm>
            <a:off x="1195560" y="1967040"/>
            <a:ext cx="3778200" cy="289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F:\document\LSI_CONTEST\ペリフェラル\ペリフェラル作成17.png"/>
          <p:cNvPicPr/>
          <p:nvPr/>
        </p:nvPicPr>
        <p:blipFill>
          <a:blip r:embed="rId2"/>
          <a:stretch/>
        </p:blipFill>
        <p:spPr>
          <a:xfrm>
            <a:off x="2971800" y="2819520"/>
            <a:ext cx="4449600" cy="25336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82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FF42-EC12-49D1-B734-86DC9707AAF1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2170080" y="2978280"/>
            <a:ext cx="647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16" descr="F:\document\LSI_CONTEST\ペリフェラル\ペリフェラル作成18.png"/>
          <p:cNvPicPr/>
          <p:nvPr/>
        </p:nvPicPr>
        <p:blipFill>
          <a:blip r:embed="rId3"/>
          <a:stretch/>
        </p:blipFill>
        <p:spPr>
          <a:xfrm>
            <a:off x="4684680" y="3938760"/>
            <a:ext cx="3975120" cy="2277720"/>
          </a:xfrm>
          <a:prstGeom prst="rect">
            <a:avLst/>
          </a:prstGeom>
          <a:ln w="0">
            <a:noFill/>
          </a:ln>
        </p:spPr>
      </p:pic>
      <p:sp>
        <p:nvSpPr>
          <p:cNvPr id="186" name="Oval 10"/>
          <p:cNvSpPr/>
          <p:nvPr/>
        </p:nvSpPr>
        <p:spPr>
          <a:xfrm>
            <a:off x="5632560" y="4667400"/>
            <a:ext cx="838080" cy="409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Oval 10"/>
          <p:cNvSpPr/>
          <p:nvPr/>
        </p:nvSpPr>
        <p:spPr>
          <a:xfrm>
            <a:off x="4145040" y="3733920"/>
            <a:ext cx="647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47240" y="15426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信号の追加（同じ内容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9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ACCE-7700-492B-926A-EE46BC479CE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13" descr="F:\document\LSI_CONTEST\ペリフェラル\ペリフェラル作成19.png"/>
          <p:cNvPicPr/>
          <p:nvPr/>
        </p:nvPicPr>
        <p:blipFill>
          <a:blip r:embed="rId1"/>
          <a:stretch/>
        </p:blipFill>
        <p:spPr>
          <a:xfrm>
            <a:off x="4952880" y="1981080"/>
            <a:ext cx="4023000" cy="3994200"/>
          </a:xfrm>
          <a:prstGeom prst="rect">
            <a:avLst/>
          </a:prstGeom>
          <a:ln w="0">
            <a:noFill/>
          </a:ln>
        </p:spPr>
      </p:pic>
      <p:sp>
        <p:nvSpPr>
          <p:cNvPr id="193" name="テキスト ボックス 7"/>
          <p:cNvSpPr/>
          <p:nvPr/>
        </p:nvSpPr>
        <p:spPr>
          <a:xfrm>
            <a:off x="76320" y="4114800"/>
            <a:ext cx="5562360" cy="92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in or out std_logic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:1bi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in or out std_logic_vector(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ビット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複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cnt_num : out std_logic_vector(0 to 31)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5611680" y="5479920"/>
            <a:ext cx="1670040" cy="231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右矢印 6"/>
          <p:cNvSpPr/>
          <p:nvPr/>
        </p:nvSpPr>
        <p:spPr>
          <a:xfrm rot="1498200">
            <a:off x="4698720" y="5221080"/>
            <a:ext cx="906480" cy="304560"/>
          </a:xfrm>
          <a:prstGeom prst="rightArrow">
            <a:avLst>
              <a:gd name="adj1" fmla="val 50000"/>
              <a:gd name="adj2" fmla="val 50074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さらに編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0" descr=""/>
          <p:cNvPicPr/>
          <p:nvPr/>
        </p:nvPicPr>
        <p:blipFill>
          <a:blip r:embed="rId1"/>
          <a:stretch/>
        </p:blipFill>
        <p:spPr>
          <a:xfrm>
            <a:off x="609480" y="2075040"/>
            <a:ext cx="4602240" cy="3328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457200"/>
            <a:ext cx="7994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9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480F-2AD2-49F2-813D-D8A1F129E8F3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右矢印 6"/>
          <p:cNvSpPr/>
          <p:nvPr/>
        </p:nvSpPr>
        <p:spPr>
          <a:xfrm rot="10800000">
            <a:off x="3603240" y="4167360"/>
            <a:ext cx="1219320" cy="304560"/>
          </a:xfrm>
          <a:prstGeom prst="rightArrow">
            <a:avLst>
              <a:gd name="adj1" fmla="val 50000"/>
              <a:gd name="adj2" fmla="val 50044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テキスト ボックス 7"/>
          <p:cNvSpPr/>
          <p:nvPr/>
        </p:nvSpPr>
        <p:spPr>
          <a:xfrm>
            <a:off x="5145120" y="3840120"/>
            <a:ext cx="335268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  cnt_num =&gt; cnt_num,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1066680" y="4159080"/>
            <a:ext cx="1600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205" name="コンテンツ プレースホルダー 5" descr=""/>
          <p:cNvPicPr/>
          <p:nvPr/>
        </p:nvPicPr>
        <p:blipFill>
          <a:blip r:embed="rId1"/>
          <a:stretch/>
        </p:blipFill>
        <p:spPr>
          <a:xfrm>
            <a:off x="666720" y="1676520"/>
            <a:ext cx="7094520" cy="4171680"/>
          </a:xfrm>
          <a:prstGeom prst="rect">
            <a:avLst/>
          </a:prstGeom>
          <a:ln w="0">
            <a:noFill/>
          </a:ln>
        </p:spPr>
      </p:pic>
      <p:sp>
        <p:nvSpPr>
          <p:cNvPr id="20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2FD5-9310-4536-A536-CF3081859C33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円/楕円 6"/>
          <p:cNvSpPr/>
          <p:nvPr/>
        </p:nvSpPr>
        <p:spPr>
          <a:xfrm>
            <a:off x="915840" y="4343400"/>
            <a:ext cx="243864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右矢印 6"/>
          <p:cNvSpPr/>
          <p:nvPr/>
        </p:nvSpPr>
        <p:spPr>
          <a:xfrm rot="10800000">
            <a:off x="3505320" y="4809600"/>
            <a:ext cx="1218960" cy="304920"/>
          </a:xfrm>
          <a:prstGeom prst="right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テキスト ボックス 7"/>
          <p:cNvSpPr/>
          <p:nvPr/>
        </p:nvSpPr>
        <p:spPr>
          <a:xfrm>
            <a:off x="5067360" y="4776840"/>
            <a:ext cx="194292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回路記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82760" y="1599840"/>
            <a:ext cx="8178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図 1" descr=""/>
          <p:cNvPicPr/>
          <p:nvPr/>
        </p:nvPicPr>
        <p:blipFill>
          <a:blip r:embed="rId1"/>
          <a:stretch/>
        </p:blipFill>
        <p:spPr>
          <a:xfrm>
            <a:off x="657360" y="2263680"/>
            <a:ext cx="7327800" cy="40388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25C2-DD5C-4C7F-B945-1F2924D3956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1447920" y="268596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1512720" y="2309760"/>
            <a:ext cx="619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 existing peripheral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チェックし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8813-09C9-4363-9CC5-551F2280FA1D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76320" y="2590920"/>
            <a:ext cx="4383000" cy="3809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4383000" cy="3809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24" name="Oval 10"/>
          <p:cNvSpPr/>
          <p:nvPr/>
        </p:nvSpPr>
        <p:spPr>
          <a:xfrm>
            <a:off x="7924680" y="609588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3352680" y="610704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6095880" y="3733920"/>
            <a:ext cx="1295640" cy="114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peripheral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で作った名前を選択後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をクリック、右上図が出ます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図 2" descr=""/>
          <p:cNvPicPr/>
          <p:nvPr/>
        </p:nvPicPr>
        <p:blipFill>
          <a:blip r:embed="rId1"/>
          <a:stretch/>
        </p:blipFill>
        <p:spPr>
          <a:xfrm>
            <a:off x="4800600" y="2778120"/>
            <a:ext cx="4086360" cy="35384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30" name="フッター プレースホルダー 3"/>
          <p:cNvSpPr/>
          <p:nvPr/>
        </p:nvSpPr>
        <p:spPr>
          <a:xfrm>
            <a:off x="2301840" y="6335640"/>
            <a:ext cx="45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F6FA-F23C-4541-9B3B-8D075596EA7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152280" y="2627280"/>
            <a:ext cx="4418280" cy="3840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6524640" y="914400"/>
            <a:ext cx="2610000" cy="1087560"/>
          </a:xfrm>
          <a:prstGeom prst="rect">
            <a:avLst/>
          </a:prstGeom>
          <a:ln w="0">
            <a:noFill/>
          </a:ln>
        </p:spPr>
      </p:pic>
      <p:sp>
        <p:nvSpPr>
          <p:cNvPr id="234" name="下矢印 2"/>
          <p:cNvSpPr/>
          <p:nvPr/>
        </p:nvSpPr>
        <p:spPr>
          <a:xfrm rot="10800000">
            <a:off x="7619760" y="2099880"/>
            <a:ext cx="533160" cy="700200"/>
          </a:xfrm>
          <a:prstGeom prst="downArrow">
            <a:avLst>
              <a:gd name="adj1" fmla="val 50000"/>
              <a:gd name="adj2" fmla="val 50057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3448080" y="62085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5181480" y="356724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7296120" y="167652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7886880" y="59799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1360" y="1405080"/>
            <a:ext cx="7721280" cy="64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主な流れ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pheral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てんぷ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 file(.MPD, .VHD, .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フッター プレースホルダー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スライド番号プレースホルダー 4"/>
          <p:cNvSpPr/>
          <p:nvPr/>
        </p:nvSpPr>
        <p:spPr>
          <a:xfrm>
            <a:off x="713592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92D0-B8F0-4358-B97C-527F29FFA09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EAD0-1087-41B5-ABA0-1BA87DE5099F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172120" cy="449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44" name="Oval 10"/>
          <p:cNvSpPr/>
          <p:nvPr/>
        </p:nvSpPr>
        <p:spPr>
          <a:xfrm>
            <a:off x="5867280" y="611496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図 1" descr=""/>
          <p:cNvPicPr/>
          <p:nvPr/>
        </p:nvPicPr>
        <p:blipFill>
          <a:blip r:embed="rId1"/>
          <a:stretch/>
        </p:blipFill>
        <p:spPr>
          <a:xfrm>
            <a:off x="4572000" y="2724120"/>
            <a:ext cx="4183200" cy="37911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guage to implement your peripheral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→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existing Periphral Analysis Order file (*pao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チェッ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作業フォル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pcores/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名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v1_00_a/data/PAO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ファイルを選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C83E-C17F-40B2-89B6-8056D87E2F3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112680" y="2720880"/>
            <a:ext cx="4295880" cy="3733920"/>
          </a:xfrm>
          <a:prstGeom prst="rect">
            <a:avLst/>
          </a:prstGeom>
          <a:ln w="0">
            <a:noFill/>
          </a:ln>
        </p:spPr>
      </p:pic>
      <p:sp>
        <p:nvSpPr>
          <p:cNvPr id="251" name="Oval 10"/>
          <p:cNvSpPr/>
          <p:nvPr/>
        </p:nvSpPr>
        <p:spPr>
          <a:xfrm>
            <a:off x="1639800" y="3200400"/>
            <a:ext cx="620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177840" y="4952880"/>
            <a:ext cx="18478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606840" y="510696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下矢印 10"/>
          <p:cNvSpPr/>
          <p:nvPr/>
        </p:nvSpPr>
        <p:spPr>
          <a:xfrm rot="16200000">
            <a:off x="4552920" y="4849560"/>
            <a:ext cx="342720" cy="777960"/>
          </a:xfrm>
          <a:prstGeom prst="down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7601040" y="58863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そのま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で書き換えたファイルの文法チェックが始まりま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失敗するとエラーが表示され、どこが悪いのか指摘してくれま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精度が悪い（一つのミスで何個もエラーが表示されることがある）のでできるだけ丁寧に書き換えを行ってくださ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8C8B-BA9A-41FD-AB2B-3B3733360131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2300400" y="2819520"/>
            <a:ext cx="4295520" cy="3733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61" name="Oval 10"/>
          <p:cNvSpPr/>
          <p:nvPr/>
        </p:nvSpPr>
        <p:spPr>
          <a:xfrm>
            <a:off x="5562720" y="624348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選択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図 2" descr=""/>
          <p:cNvPicPr/>
          <p:nvPr/>
        </p:nvPicPr>
        <p:blipFill>
          <a:blip r:embed="rId1"/>
          <a:stretch/>
        </p:blipFill>
        <p:spPr>
          <a:xfrm>
            <a:off x="4648320" y="2706840"/>
            <a:ext cx="3987720" cy="3757320"/>
          </a:xfrm>
          <a:prstGeom prst="rect">
            <a:avLst/>
          </a:prstGeom>
          <a:ln w="0">
            <a:noFill/>
          </a:ln>
        </p:spPr>
      </p:pic>
      <p:pic>
        <p:nvPicPr>
          <p:cNvPr id="264" name="図 1" descr=""/>
          <p:cNvPicPr/>
          <p:nvPr/>
        </p:nvPicPr>
        <p:blipFill>
          <a:blip r:embed="rId2"/>
          <a:stretch/>
        </p:blipFill>
        <p:spPr>
          <a:xfrm>
            <a:off x="477720" y="2654280"/>
            <a:ext cx="4024440" cy="3787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6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F18E-6879-4851-8A51-569F0551583B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7620120" y="616752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609480" y="3543480"/>
            <a:ext cx="838440" cy="495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634680" y="153684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 determine high adress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→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_HIGHADDR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選択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図 2" descr=""/>
          <p:cNvPicPr/>
          <p:nvPr/>
        </p:nvPicPr>
        <p:blipFill>
          <a:blip r:embed="rId1"/>
          <a:stretch/>
        </p:blipFill>
        <p:spPr>
          <a:xfrm>
            <a:off x="4572000" y="2532240"/>
            <a:ext cx="3897360" cy="3657600"/>
          </a:xfrm>
          <a:prstGeom prst="rect">
            <a:avLst/>
          </a:prstGeom>
          <a:ln w="0">
            <a:noFill/>
          </a:ln>
        </p:spPr>
      </p:pic>
      <p:pic>
        <p:nvPicPr>
          <p:cNvPr id="272" name="図 1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8098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7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212A-1E49-4944-A1C5-E4E662440F3E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7162920" y="5938920"/>
            <a:ext cx="121896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2133720" y="3622680"/>
            <a:ext cx="213336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図 1" descr=""/>
          <p:cNvPicPr/>
          <p:nvPr/>
        </p:nvPicPr>
        <p:blipFill>
          <a:blip r:embed="rId1"/>
          <a:stretch/>
        </p:blipFill>
        <p:spPr>
          <a:xfrm>
            <a:off x="1886040" y="2031840"/>
            <a:ext cx="4228920" cy="40053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52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2ACD-9D41-4C7A-BDD0-B6EA4D0A5C10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4987800" y="576108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終了で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E57E-0504-4DD7-9D13-CBE7D7D0F447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図 1" descr=""/>
          <p:cNvPicPr/>
          <p:nvPr/>
        </p:nvPicPr>
        <p:blipFill>
          <a:blip r:embed="rId1"/>
          <a:stretch/>
        </p:blipFill>
        <p:spPr>
          <a:xfrm>
            <a:off x="2181240" y="2057400"/>
            <a:ext cx="4591080" cy="3986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更新され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表示され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図 1" descr=""/>
          <p:cNvPicPr/>
          <p:nvPr/>
        </p:nvPicPr>
        <p:blipFill>
          <a:blip r:embed="rId1"/>
          <a:stretch/>
        </p:blipFill>
        <p:spPr>
          <a:xfrm>
            <a:off x="1954080" y="2286000"/>
            <a:ext cx="4230720" cy="35812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2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4FFE-6E84-436E-AA24-A6662E09D3F0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2120760" y="464832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サンプル用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8AB0-9B2A-4EE0-89F1-0155BF0847D0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正方形/長方形 5"/>
          <p:cNvSpPr/>
          <p:nvPr/>
        </p:nvSpPr>
        <p:spPr>
          <a:xfrm>
            <a:off x="711360" y="1882800"/>
            <a:ext cx="5333760" cy="1170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正方形/長方形 6"/>
          <p:cNvSpPr/>
          <p:nvPr/>
        </p:nvSpPr>
        <p:spPr>
          <a:xfrm>
            <a:off x="762120" y="1882800"/>
            <a:ext cx="5638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iptobus_DATA = "", DIR = I, VEC = [(C_SLV_DWIDTH-1):0], ENDIAN = LITTL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Rd_ACK = "", DIR = I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Wr_ACK = "", DIR = I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bustoip_DATA = "", DIR = O, VEC = [(C_SLV_DWIDTH-1):0], ENDIAN = LITTL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Rd_EN = "", DIR = 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Wr_EN = "", DIR = 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テキスト ボックス 11"/>
          <p:cNvSpPr/>
          <p:nvPr/>
        </p:nvSpPr>
        <p:spPr>
          <a:xfrm>
            <a:off x="944640" y="151596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ファイル用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正方形/長方形 8"/>
          <p:cNvSpPr/>
          <p:nvPr/>
        </p:nvSpPr>
        <p:spPr>
          <a:xfrm>
            <a:off x="711360" y="4962600"/>
            <a:ext cx="2474640" cy="1170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テキスト ボックス 12"/>
          <p:cNvSpPr/>
          <p:nvPr/>
        </p:nvSpPr>
        <p:spPr>
          <a:xfrm>
            <a:off x="795960" y="31449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ファイル用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正方形/長方形 10"/>
          <p:cNvSpPr/>
          <p:nvPr/>
        </p:nvSpPr>
        <p:spPr>
          <a:xfrm>
            <a:off x="711360" y="4987800"/>
            <a:ext cx="3213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=&gt; iptobus_DATA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=&gt; Rd_ACK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=&gt; Wr_ACK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=&gt; bustoip_DATA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=&gt; Rd_EN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=&gt; Wr_EN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正方形/長方形 12"/>
          <p:cNvSpPr/>
          <p:nvPr/>
        </p:nvSpPr>
        <p:spPr>
          <a:xfrm>
            <a:off x="711360" y="3514680"/>
            <a:ext cx="6908760" cy="12859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正方形/長方形 13"/>
          <p:cNvSpPr/>
          <p:nvPr/>
        </p:nvSpPr>
        <p:spPr>
          <a:xfrm>
            <a:off x="762120" y="3514680"/>
            <a:ext cx="5638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            : in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            : out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サンプル用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0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2432-ACD5-49F0-86F6-3E7E2375CD8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正方形/長方形 5"/>
          <p:cNvSpPr/>
          <p:nvPr/>
        </p:nvSpPr>
        <p:spPr>
          <a:xfrm>
            <a:off x="685800" y="2060640"/>
            <a:ext cx="53229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            : in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            : out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正方形/長方形 6"/>
          <p:cNvSpPr/>
          <p:nvPr/>
        </p:nvSpPr>
        <p:spPr>
          <a:xfrm>
            <a:off x="674640" y="2057400"/>
            <a:ext cx="5334120" cy="13716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テキスト ボックス 12"/>
          <p:cNvSpPr/>
          <p:nvPr/>
        </p:nvSpPr>
        <p:spPr>
          <a:xfrm>
            <a:off x="577800" y="16876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_logic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ファイル用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正方形/長方形 8"/>
          <p:cNvSpPr/>
          <p:nvPr/>
        </p:nvSpPr>
        <p:spPr>
          <a:xfrm>
            <a:off x="849240" y="3772080"/>
            <a:ext cx="457200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Data  &lt;= iptobus_DATA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WrAck &lt;= Wr_ACK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RdAck &lt;= Rd_ACK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Error &lt;= '0'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&lt;= Bus2IP_Data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&lt;= Bus2IP_RdCE(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&lt;= Bus2IP_WrCE(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正方形/長方形 9"/>
          <p:cNvSpPr/>
          <p:nvPr/>
        </p:nvSpPr>
        <p:spPr>
          <a:xfrm>
            <a:off x="838080" y="3733920"/>
            <a:ext cx="5562720" cy="16873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テキスト ボックス 12"/>
          <p:cNvSpPr/>
          <p:nvPr/>
        </p:nvSpPr>
        <p:spPr>
          <a:xfrm>
            <a:off x="5299920" y="3803760"/>
            <a:ext cx="2201400" cy="69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_logic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ファイル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回路記述用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316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104" name="図 1" descr=""/>
          <p:cNvPicPr/>
          <p:nvPr/>
        </p:nvPicPr>
        <p:blipFill>
          <a:blip r:embed="rId1"/>
          <a:stretch/>
        </p:blipFill>
        <p:spPr>
          <a:xfrm>
            <a:off x="1219320" y="2155680"/>
            <a:ext cx="6775200" cy="3733920"/>
          </a:xfrm>
          <a:prstGeom prst="rect">
            <a:avLst/>
          </a:prstGeom>
          <a:ln w="0">
            <a:noFill/>
          </a:ln>
        </p:spPr>
      </p:pic>
      <p:sp>
        <p:nvSpPr>
          <p:cNvPr id="105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95DE-3AC9-4CF3-AD10-E1686ABAD90A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1905120" y="255276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1905120" y="2263680"/>
            <a:ext cx="6188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7033-E3E5-4D67-A015-6EFA7DAEE7F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4340520" cy="377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14" name="Oval 10"/>
          <p:cNvSpPr/>
          <p:nvPr/>
        </p:nvSpPr>
        <p:spPr>
          <a:xfrm>
            <a:off x="3352680" y="617544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572000" y="2639880"/>
            <a:ext cx="4400640" cy="3826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16" name="Oval 10"/>
          <p:cNvSpPr/>
          <p:nvPr/>
        </p:nvSpPr>
        <p:spPr>
          <a:xfrm>
            <a:off x="7848720" y="61596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6086520" y="358128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2" descr="F:\document\LSI_CONTEST\ペリフェラル\ペリフェラル作成5.png"/>
          <p:cNvPicPr/>
          <p:nvPr/>
        </p:nvPicPr>
        <p:blipFill>
          <a:blip r:embed="rId1"/>
          <a:stretch/>
        </p:blipFill>
        <p:spPr>
          <a:xfrm>
            <a:off x="4633920" y="2550960"/>
            <a:ext cx="4457520" cy="38754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====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右図で名前を入力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B811-C7DB-4D25-A519-DA4C050DC44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71280" y="2514600"/>
            <a:ext cx="4470480" cy="3886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24" name="Oval 10"/>
          <p:cNvSpPr/>
          <p:nvPr/>
        </p:nvSpPr>
        <p:spPr>
          <a:xfrm>
            <a:off x="152280" y="3809880"/>
            <a:ext cx="10670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8001000" y="607392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5029200" y="32004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581280" y="619776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33520" y="1413000"/>
            <a:ext cx="853416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XI-4Lit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選択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右図で赤丸のチェックをつけて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4" descr="F:\document\LSI_CONTEST\ペリフェラル\ペリフェラル作成6.png"/>
          <p:cNvPicPr/>
          <p:nvPr/>
        </p:nvPicPr>
        <p:blipFill>
          <a:blip r:embed="rId1"/>
          <a:stretch/>
        </p:blipFill>
        <p:spPr>
          <a:xfrm>
            <a:off x="249120" y="2714760"/>
            <a:ext cx="4214880" cy="36795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3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F357-1233-4C59-B33B-7EACBB9A9AE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380880" y="3263760"/>
            <a:ext cx="12193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3352680" y="605628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図 1" descr=""/>
          <p:cNvPicPr/>
          <p:nvPr/>
        </p:nvPicPr>
        <p:blipFill>
          <a:blip r:embed="rId2"/>
          <a:stretch/>
        </p:blipFill>
        <p:spPr>
          <a:xfrm>
            <a:off x="4562640" y="2689200"/>
            <a:ext cx="4259160" cy="3695760"/>
          </a:xfrm>
          <a:prstGeom prst="rect">
            <a:avLst/>
          </a:prstGeom>
          <a:ln w="0">
            <a:noFill/>
          </a:ln>
        </p:spPr>
      </p:pic>
      <p:sp>
        <p:nvSpPr>
          <p:cNvPr id="136" name="Oval 10"/>
          <p:cNvSpPr/>
          <p:nvPr/>
        </p:nvSpPr>
        <p:spPr>
          <a:xfrm>
            <a:off x="6600960" y="4863960"/>
            <a:ext cx="10666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7696080" y="605484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33160" y="1413000"/>
            <a:ext cx="83818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（必要な項目はチェッ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1" descr="F:\document\LSI_CONTEST\ペリフェラル\ペリフェラル作成9.png"/>
          <p:cNvPicPr/>
          <p:nvPr/>
        </p:nvPicPr>
        <p:blipFill>
          <a:blip r:embed="rId1"/>
          <a:stretch/>
        </p:blipFill>
        <p:spPr>
          <a:xfrm>
            <a:off x="2590920" y="2514600"/>
            <a:ext cx="4381560" cy="3787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4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1CF9-9440-4542-9DFD-2EF32F558D50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5867280" y="594360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log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書く場合は一番上をチェ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1" descr="F:\document\LSI_CONTEST\ペリフェラル\ペリフェラル作成10.png"/>
          <p:cNvPicPr/>
          <p:nvPr/>
        </p:nvPicPr>
        <p:blipFill>
          <a:blip r:embed="rId1"/>
          <a:stretch/>
        </p:blipFill>
        <p:spPr>
          <a:xfrm>
            <a:off x="228600" y="3124080"/>
            <a:ext cx="4400640" cy="3308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4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690D-3798-427F-9C69-53F3B101FF97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4416480" cy="3308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50" name="Oval 10"/>
          <p:cNvSpPr/>
          <p:nvPr/>
        </p:nvSpPr>
        <p:spPr>
          <a:xfrm>
            <a:off x="3505320" y="608184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Oval 10"/>
          <p:cNvSpPr/>
          <p:nvPr/>
        </p:nvSpPr>
        <p:spPr>
          <a:xfrm>
            <a:off x="7924680" y="608472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6019920" y="4076640"/>
            <a:ext cx="2097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終了で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B478-498D-4703-B7C9-C750D3DAF7CD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7" descr="F:\document\LSI_CONTEST\ペリフェラル\ペリフェラル作成12.png"/>
          <p:cNvPicPr/>
          <p:nvPr/>
        </p:nvPicPr>
        <p:blipFill>
          <a:blip r:embed="rId1"/>
          <a:stretch/>
        </p:blipFill>
        <p:spPr>
          <a:xfrm>
            <a:off x="2311560" y="1994040"/>
            <a:ext cx="4825800" cy="4190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iokawa</dc:creator>
  <dc:description/>
  <dc:language>en-US</dc:language>
  <cp:lastModifiedBy>whirata</cp:lastModifiedBy>
  <dcterms:modified xsi:type="dcterms:W3CDTF">2012-11-20T08:42:07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