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FCB-7635-49BA-B0A2-59439DBDD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B07-C207-4D4B-8E8B-B572EF17EE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EE7B-8843-439B-BEFB-4599362C6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A325-FE62-44F9-A341-32D761BD0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1764-1588-4B5F-91F1-9F0E7F31A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923-FC92-4BC5-848F-213373A82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184-6886-462A-938F-CD04FD31AF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3C8-55FF-40E8-AA67-DC3E181BF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DFE-C08F-4C4A-8679-63F36EEF2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941-6370-4A6A-AE6A-43D75015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3B0-9A29-4809-B14D-1200486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99A-7E2F-4D3F-9FFD-29938BB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471-875E-4C74-9A02-20ED114B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A2B0-43D3-4C33-8B7D-0214C07F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02E-7A8D-4564-9048-C6135AD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B71-36BE-4F7B-9AE4-5D38DA8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C6E1-F8DF-45B7-968F-3188053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BF11-A8F6-4FF0-B570-C397758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5DD5-9AD4-425D-875B-C7A83A35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4F91-EE27-476A-828C-8A7FE5B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A33-E81B-4CCF-86BD-4BED4575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B95-FF04-4A62-82B4-753B426C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D5EF-5C32-4706-A5B3-84F052B5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3FE-ED0B-4772-BE72-D9A157B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2D3-CC96-4263-8B9A-461594AF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670C-01EA-4EF2-8FA0-4964B361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569-3A2F-4335-AF7D-2D8901E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130-6AFA-4D35-B1F3-EFFFF568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603-01EA-434B-8FFE-CFEEF53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23F-C0F5-4B39-B424-E9BCA85A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0E0-3E2E-49D2-8961-AF134BC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50A-5567-4781-B11F-8FFC2109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1E4-053E-4691-AB78-C0C59EA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96E-62A6-4CFF-9471-2128D82289E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0D06-1284-4347-8521-862884A4DB8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A782-EE20-4C82-BF74-37D37DA912C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folder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4D74-4E76-43A5-8E1D-FF109C8E93C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MPD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folder\pcores\test_v1_00_a\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524C-ADB4-46FA-92E5-1CB82F5AA78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5235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nput or output information within red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F13C-4B9B-4E91-B6E6-F5A4550D9E7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3830760" y="4178160"/>
            <a:ext cx="52225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Signal Name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FF4-CDCB-4EAC-BCC1-4A7D5DA8386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テキスト ボックス 1"/>
          <p:cNvSpPr/>
          <p:nvPr/>
        </p:nvSpPr>
        <p:spPr>
          <a:xfrm>
            <a:off x="662040" y="42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テキスト ボックス 12"/>
          <p:cNvSpPr/>
          <p:nvPr/>
        </p:nvSpPr>
        <p:spPr>
          <a:xfrm>
            <a:off x="2438280" y="484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テキスト ボックス 13"/>
          <p:cNvSpPr/>
          <p:nvPr/>
        </p:nvSpPr>
        <p:spPr>
          <a:xfrm>
            <a:off x="4202280" y="574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VHD file(.vhd)in the following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igna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ont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F78E-001E-4334-A8A0-9541BA10591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7"/>
          <p:cNvSpPr/>
          <p:nvPr/>
        </p:nvSpPr>
        <p:spPr>
          <a:xfrm>
            <a:off x="76320" y="4114800"/>
            <a:ext cx="63705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_vector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Multiple 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0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7B27-8B17-4BB1-A69C-E2E1265BEA0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=&gt; Signal Nam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8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AE91-6B37-4F5A-89DA-14CB1F0DFF6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テキスト ボックス 7"/>
          <p:cNvSpPr/>
          <p:nvPr/>
        </p:nvSpPr>
        <p:spPr>
          <a:xfrm>
            <a:off x="4952880" y="4792680"/>
            <a:ext cx="2629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Descrip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43F-751D-407F-81F7-9B0AF489F5F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83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port existing peripheral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2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40E-4937-4DCE-A5AC-77D6248E3D8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6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9" name="Oval 10"/>
          <p:cNvSpPr/>
          <p:nvPr/>
        </p:nvSpPr>
        <p:spPr>
          <a:xfrm>
            <a:off x="6095880" y="3848040"/>
            <a:ext cx="1295640" cy="11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2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3249-FC23-4051-91D2-594A9ED8216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1279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Left figure, Select the name which you mak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, and Click the Next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right figure is displayed on the screen, and Click the yes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The Main Flow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EEAA-1CA2-47FD-8C6F-5B55BBF462B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788F-79DA-4C0C-BE73-205F0861EE8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7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Use existing Periphral Analysis Order file (*pa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\your working folder/pcores/Name_v1_00_a/data/PA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5E4F-2870-4F10-8BEB-07A2B4C822F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F28-C847-4845-96AF-48EF621EF26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3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, and the grammar of renewed file will be 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ed, errors are displayed on the screen. It points out where you make errors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lecting Slave of 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,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7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003-36DE-4E2B-A649-8788AD609F3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ecting C_HIGHADDR of Parameter determine high adress,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4492-0A31-40C4-9D06-B49B0906C37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52F-99E5-4520-A13E-044E03024FB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3AB-D68B-4AD1-A3A5-0BCC4502C46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6E23-CA25-475C-9D03-D054E99CFFD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IP is displayed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88D-1409-46B5-A9E7-812662DB346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715320" y="15098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テキスト ボックス 12"/>
          <p:cNvSpPr/>
          <p:nvPr/>
        </p:nvSpPr>
        <p:spPr>
          <a:xfrm>
            <a:off x="716400" y="31449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1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EE6F-3145-4286-A4B2-7A1B1065170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58720" y="16876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5241240" y="3803760"/>
            <a:ext cx="231876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 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ircuit Descrip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7704-7A83-447C-8D4B-7DB297ED923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CB9E-D369-404C-9E8F-D653145720E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743200"/>
            <a:ext cx="4457520" cy="368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an XPS project and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the name of the peripheral and 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441-8339-4BDB-B842-768432214D5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743200"/>
            <a:ext cx="44704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28520" y="402264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7975440" y="6137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800600" y="3429000"/>
            <a:ext cx="914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429000" y="6083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3FD5-33F9-4205-BED6-E7384AF15D4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5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XI-4Lite and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nclude data phase timer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C9AE-2D6D-44E8-A221-B7CB735786A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B80-BB66-4F32-80F1-704822ABB35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49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rite a program using Verilog, Check the top Check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321-4492-413E-ABD3-3AAD4B4E002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cp:lastPrinted>2012-09-28T04:19:07Z</cp:lastPrinted>
  <dcterms:modified xsi:type="dcterms:W3CDTF">2012-11-20T08:43:3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