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E452-0FE5-4613-AE60-E07847CE28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1893-C041-454A-A4E3-8A7B6BEB6A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A5B1-DBF3-43ED-8253-8AE7E683FE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B7D1-52D6-4794-A416-55B68E5C8C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2E12-70BC-4EB7-B017-13F8BDE052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3606-D0BF-4185-A9C6-3E23FAE9CA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26E9-AA42-4E4F-8824-F75A9FC362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5A9B-BA14-407D-AE42-C266199679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689A-D3F3-4A3D-A015-91E15BCF85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068-FFFD-49E7-B6F5-5710E399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27D-521F-44E0-8A4C-0CF14F1E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A70-D3FC-481E-BAE9-04AEE5E0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CD4-3027-485D-B47E-7C2AB7CA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3148-B560-4BD0-8450-21264D3D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5CE0-FD4C-4794-9F93-B24BAE9E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4745-BFC9-4450-875C-E84518A6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38E1-2B7D-490D-8A07-9B01F276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30FC-DBE7-4494-8DEC-F437266A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F04F-13DD-4E3A-B870-BFB0CD75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A3AA-BFB7-4B41-BD82-1822DDC3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7BC-527C-414F-A0EB-5DF5F80E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F611-1C14-4CF7-9579-3B93DC93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FAD5-AF78-45FC-B107-3B1F6DD0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722E-BE48-43B4-912A-145B26AC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7ADE-3396-42D7-9B50-720ECDE1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0F30-E965-4A52-9A65-9A2A3B1B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1E6-8B8D-430F-9452-5666AABC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5C4-35E9-484D-929A-2E174119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196-3176-477A-8AB8-6BA1F93D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9A2-958F-4D48-B31B-20E31D21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D33-4D3D-4011-864D-5C93C5E8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160-433E-4137-B8E4-AC529153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EA9-E347-4FFE-A488-E7CF568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hyperlink" Target="http://jimu-www.jimu.kyutech.ac.jp/gakunai/img_date/picture/logomark_E1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30828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4C39-3FDD-4129-90CE-A0A592D328D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912960" y="1066680"/>
            <a:ext cx="8231040" cy="381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6" name="Picture 8" descr="MPEGimage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11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912960" y="2057400"/>
            <a:ext cx="82310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_s"/>
          <p:cNvPicPr/>
          <p:nvPr/>
        </p:nvPicPr>
        <p:blipFill>
          <a:blip r:embed="rId3"/>
          <a:stretch/>
        </p:blipFill>
        <p:spPr>
          <a:xfrm>
            <a:off x="7524720" y="530064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mark_E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5661000"/>
            <a:ext cx="1141560" cy="1023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41768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3592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17D4-1632-415C-8F49-DF22EDCF667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3BE2-6784-453E-9B98-900D378649C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1360" y="850680"/>
            <a:ext cx="772128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and Import Peripheral</a:t>
            </a:r>
            <a:br>
              <a:rPr sz="3600"/>
            </a:b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For Microblaze</a:t>
            </a: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ver AXI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Sept /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aru Hi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1495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作業中のフォル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pcores\test_v1_00_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図 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211800" cy="4191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C821-8F72-4E21-AB94-9B1B5EB2203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2895480" y="32767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ファイルを開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フォルダ名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F:\document\LSI_CONTEST\ペリフェラル\ペリフェラル作成15.png"/>
          <p:cNvPicPr/>
          <p:nvPr/>
        </p:nvPicPr>
        <p:blipFill>
          <a:blip r:embed="rId1"/>
          <a:stretch/>
        </p:blipFill>
        <p:spPr>
          <a:xfrm>
            <a:off x="1227240" y="2590920"/>
            <a:ext cx="6400800" cy="3956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5C69-5863-41AC-BC95-D2455AC930F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3048120" y="375444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12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赤丸の部分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, outpu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記述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" descr="F:\document\LSI_CONTEST\ペリフェラル\ペリフェラル作成16.png"/>
          <p:cNvPicPr/>
          <p:nvPr/>
        </p:nvPicPr>
        <p:blipFill>
          <a:blip r:embed="rId1"/>
          <a:stretch/>
        </p:blipFill>
        <p:spPr>
          <a:xfrm>
            <a:off x="385920" y="2070000"/>
            <a:ext cx="5027400" cy="4546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221B-965F-43C9-BFD3-859F907F9E5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85800" y="4267080"/>
            <a:ext cx="167652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右矢印 2"/>
          <p:cNvSpPr/>
          <p:nvPr/>
        </p:nvSpPr>
        <p:spPr>
          <a:xfrm>
            <a:off x="2506680" y="4202280"/>
            <a:ext cx="1150920" cy="304560"/>
          </a:xfrm>
          <a:prstGeom prst="rightArrow">
            <a:avLst>
              <a:gd name="adj1" fmla="val 50000"/>
              <a:gd name="adj2" fmla="val 5007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テキスト ボックス 5"/>
          <p:cNvSpPr/>
          <p:nvPr/>
        </p:nvSpPr>
        <p:spPr>
          <a:xfrm>
            <a:off x="4006080" y="4178160"/>
            <a:ext cx="451476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“”, DIR = I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O, VEC = [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ビット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例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cnt_num = "", DIR = O, VEC = [0:31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252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下の手順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ファイ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.vhd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開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3" descr="F:\document\LSI_CONTEST\ペリフェラル\ペリフェラル作成14.png"/>
          <p:cNvPicPr/>
          <p:nvPr/>
        </p:nvPicPr>
        <p:blipFill>
          <a:blip r:embed="rId1"/>
          <a:stretch/>
        </p:blipFill>
        <p:spPr>
          <a:xfrm>
            <a:off x="1195560" y="1967040"/>
            <a:ext cx="3778200" cy="289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F:\document\LSI_CONTEST\ペリフェラル\ペリフェラル作成17.png"/>
          <p:cNvPicPr/>
          <p:nvPr/>
        </p:nvPicPr>
        <p:blipFill>
          <a:blip r:embed="rId2"/>
          <a:stretch/>
        </p:blipFill>
        <p:spPr>
          <a:xfrm>
            <a:off x="2971800" y="2819520"/>
            <a:ext cx="4449600" cy="2533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8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1D9B-5947-4D29-989C-4BB4E68801C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2170080" y="297828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16" descr="F:\document\LSI_CONTEST\ペリフェラル\ペリフェラル作成18.png"/>
          <p:cNvPicPr/>
          <p:nvPr/>
        </p:nvPicPr>
        <p:blipFill>
          <a:blip r:embed="rId3"/>
          <a:stretch/>
        </p:blipFill>
        <p:spPr>
          <a:xfrm>
            <a:off x="4684680" y="3938760"/>
            <a:ext cx="3975120" cy="2277720"/>
          </a:xfrm>
          <a:prstGeom prst="rect">
            <a:avLst/>
          </a:prstGeom>
          <a:ln w="0">
            <a:noFill/>
          </a:ln>
        </p:spPr>
      </p:pic>
      <p:sp>
        <p:nvSpPr>
          <p:cNvPr id="186" name="Oval 10"/>
          <p:cNvSpPr/>
          <p:nvPr/>
        </p:nvSpPr>
        <p:spPr>
          <a:xfrm>
            <a:off x="5632560" y="4667400"/>
            <a:ext cx="838080" cy="40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4145040" y="373392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47240" y="1542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信号の追加（同じ内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023F-FAD0-4F21-96B6-5C9A3590F82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13" descr="F:\document\LSI_CONTEST\ペリフェラル\ペリフェラル作成19.png"/>
          <p:cNvPicPr/>
          <p:nvPr/>
        </p:nvPicPr>
        <p:blipFill>
          <a:blip r:embed="rId1"/>
          <a:stretch/>
        </p:blipFill>
        <p:spPr>
          <a:xfrm>
            <a:off x="4952880" y="1981080"/>
            <a:ext cx="4023000" cy="3994200"/>
          </a:xfrm>
          <a:prstGeom prst="rect">
            <a:avLst/>
          </a:prstGeom>
          <a:ln w="0">
            <a:noFill/>
          </a:ln>
        </p:spPr>
      </p:pic>
      <p:sp>
        <p:nvSpPr>
          <p:cNvPr id="193" name="テキスト ボックス 7"/>
          <p:cNvSpPr/>
          <p:nvPr/>
        </p:nvSpPr>
        <p:spPr>
          <a:xfrm>
            <a:off x="76320" y="4114800"/>
            <a:ext cx="5562360" cy="92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in or out std_logic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:1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in or out std_logic_vector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ビット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複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cnt_num : out std_logic_vector(0 to 31)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5611680" y="5479920"/>
            <a:ext cx="1670040" cy="23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右矢印 6"/>
          <p:cNvSpPr/>
          <p:nvPr/>
        </p:nvSpPr>
        <p:spPr>
          <a:xfrm rot="1498200">
            <a:off x="4698720" y="5221080"/>
            <a:ext cx="906480" cy="304560"/>
          </a:xfrm>
          <a:prstGeom prst="rightArrow">
            <a:avLst>
              <a:gd name="adj1" fmla="val 50000"/>
              <a:gd name="adj2" fmla="val 5007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さらに編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0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4602240" cy="332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7994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E02C-9C9B-4D57-A8F2-429728EA898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右矢印 6"/>
          <p:cNvSpPr/>
          <p:nvPr/>
        </p:nvSpPr>
        <p:spPr>
          <a:xfrm rot="10800000">
            <a:off x="3603240" y="4167360"/>
            <a:ext cx="1219320" cy="304560"/>
          </a:xfrm>
          <a:prstGeom prst="right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テキスト ボックス 7"/>
          <p:cNvSpPr/>
          <p:nvPr/>
        </p:nvSpPr>
        <p:spPr>
          <a:xfrm>
            <a:off x="5145120" y="3840120"/>
            <a:ext cx="335268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信号名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 cnt_num =&gt; cnt_num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1066680" y="4159080"/>
            <a:ext cx="1600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205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666720" y="1676520"/>
            <a:ext cx="7094520" cy="4171680"/>
          </a:xfrm>
          <a:prstGeom prst="rect">
            <a:avLst/>
          </a:prstGeom>
          <a:ln w="0">
            <a:noFill/>
          </a:ln>
        </p:spPr>
      </p:pic>
      <p:sp>
        <p:nvSpPr>
          <p:cNvPr id="20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DC3C-89E4-48FD-A370-3B1E96C29C0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円/楕円 6"/>
          <p:cNvSpPr/>
          <p:nvPr/>
        </p:nvSpPr>
        <p:spPr>
          <a:xfrm>
            <a:off x="915840" y="4343400"/>
            <a:ext cx="24386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右矢印 6"/>
          <p:cNvSpPr/>
          <p:nvPr/>
        </p:nvSpPr>
        <p:spPr>
          <a:xfrm rot="10800000">
            <a:off x="3505320" y="4809600"/>
            <a:ext cx="121896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テキスト ボックス 7"/>
          <p:cNvSpPr/>
          <p:nvPr/>
        </p:nvSpPr>
        <p:spPr>
          <a:xfrm>
            <a:off x="5067360" y="4776840"/>
            <a:ext cx="19429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回路記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2760" y="15998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図 1" descr=""/>
          <p:cNvPicPr/>
          <p:nvPr/>
        </p:nvPicPr>
        <p:blipFill>
          <a:blip r:embed="rId1"/>
          <a:stretch/>
        </p:blipFill>
        <p:spPr>
          <a:xfrm>
            <a:off x="657360" y="2263680"/>
            <a:ext cx="7327800" cy="4038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0C84-E496-4352-89EE-6E4A2C090B1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1447920" y="26859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512720" y="2309760"/>
            <a:ext cx="619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 existing periphera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チェックし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96FB-03C2-4209-9ED4-A6D971EA173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76320" y="2590920"/>
            <a:ext cx="4383000" cy="38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383000" cy="38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4" name="Oval 10"/>
          <p:cNvSpPr/>
          <p:nvPr/>
        </p:nvSpPr>
        <p:spPr>
          <a:xfrm>
            <a:off x="7924680" y="60958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352680" y="61070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6095880" y="3733920"/>
            <a:ext cx="1295640" cy="114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periphera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作った名前を選択後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クリック、右上図が出ます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図 2" descr=""/>
          <p:cNvPicPr/>
          <p:nvPr/>
        </p:nvPicPr>
        <p:blipFill>
          <a:blip r:embed="rId1"/>
          <a:stretch/>
        </p:blipFill>
        <p:spPr>
          <a:xfrm>
            <a:off x="4800600" y="2778120"/>
            <a:ext cx="4086360" cy="35384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30" name="フッター プレースホルダー 3"/>
          <p:cNvSpPr/>
          <p:nvPr/>
        </p:nvSpPr>
        <p:spPr>
          <a:xfrm>
            <a:off x="2301840" y="633564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13AF-36FD-4FC1-8E06-5D44B50437E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52280" y="2627280"/>
            <a:ext cx="4418280" cy="384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6524640" y="914400"/>
            <a:ext cx="2610000" cy="1087560"/>
          </a:xfrm>
          <a:prstGeom prst="rect">
            <a:avLst/>
          </a:prstGeom>
          <a:ln w="0">
            <a:noFill/>
          </a:ln>
        </p:spPr>
      </p:pic>
      <p:sp>
        <p:nvSpPr>
          <p:cNvPr id="234" name="下矢印 2"/>
          <p:cNvSpPr/>
          <p:nvPr/>
        </p:nvSpPr>
        <p:spPr>
          <a:xfrm rot="10800000">
            <a:off x="7619760" y="2099880"/>
            <a:ext cx="533160" cy="700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3448080" y="62085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5181480" y="35672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7296120" y="1676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7886880" y="59799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1360" y="1405080"/>
            <a:ext cx="772128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主な流れ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てんぷ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 file(.MPD, .VHD, .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フッター プレースホルダー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スライド番号プレースホルダー 4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5455-A2B0-4541-8C9A-FDADC282199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3348-E59E-4C72-A169-E1E2EFA6D94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721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44" name="Oval 10"/>
          <p:cNvSpPr/>
          <p:nvPr/>
        </p:nvSpPr>
        <p:spPr>
          <a:xfrm>
            <a:off x="5867280" y="611496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図 1" descr=""/>
          <p:cNvPicPr/>
          <p:nvPr/>
        </p:nvPicPr>
        <p:blipFill>
          <a:blip r:embed="rId1"/>
          <a:stretch/>
        </p:blipFill>
        <p:spPr>
          <a:xfrm>
            <a:off x="4572000" y="2724120"/>
            <a:ext cx="4183200" cy="37911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to implement your periphera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existing Periphral Analysis Order file (*pao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チェ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作業フォル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cores/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名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v1_00_a/data/PAO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ファイルを選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6393-6691-4428-886D-73744E3E673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112680" y="2720880"/>
            <a:ext cx="4295880" cy="3733920"/>
          </a:xfrm>
          <a:prstGeom prst="rect">
            <a:avLst/>
          </a:prstGeom>
          <a:ln w="0">
            <a:noFill/>
          </a:ln>
        </p:spPr>
      </p:pic>
      <p:sp>
        <p:nvSpPr>
          <p:cNvPr id="251" name="Oval 10"/>
          <p:cNvSpPr/>
          <p:nvPr/>
        </p:nvSpPr>
        <p:spPr>
          <a:xfrm>
            <a:off x="1639800" y="3200400"/>
            <a:ext cx="620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177840" y="4952880"/>
            <a:ext cx="18478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606840" y="51069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下矢印 10"/>
          <p:cNvSpPr/>
          <p:nvPr/>
        </p:nvSpPr>
        <p:spPr>
          <a:xfrm rot="16200000">
            <a:off x="4552920" y="4849560"/>
            <a:ext cx="342720" cy="777960"/>
          </a:xfrm>
          <a:prstGeom prst="down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7601040" y="58863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そのま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で書き換えたファイルの文法チェックが始まりま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失敗するとエラーが表示され、どこが悪いのか指摘してくれま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精度が悪い（一つのミスで何個もエラーが表示されることがある）のでできるだけ丁寧に書き換えを行ってくださ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C570-5663-4F5A-A19F-804B26512C3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29552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61" name="Oval 10"/>
          <p:cNvSpPr/>
          <p:nvPr/>
        </p:nvSpPr>
        <p:spPr>
          <a:xfrm>
            <a:off x="5562720" y="624348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選択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図 2" descr=""/>
          <p:cNvPicPr/>
          <p:nvPr/>
        </p:nvPicPr>
        <p:blipFill>
          <a:blip r:embed="rId1"/>
          <a:stretch/>
        </p:blipFill>
        <p:spPr>
          <a:xfrm>
            <a:off x="4648320" y="2706840"/>
            <a:ext cx="3987720" cy="3757320"/>
          </a:xfrm>
          <a:prstGeom prst="rect">
            <a:avLst/>
          </a:prstGeom>
          <a:ln w="0">
            <a:noFill/>
          </a:ln>
        </p:spPr>
      </p:pic>
      <p:pic>
        <p:nvPicPr>
          <p:cNvPr id="264" name="図 1" descr=""/>
          <p:cNvPicPr/>
          <p:nvPr/>
        </p:nvPicPr>
        <p:blipFill>
          <a:blip r:embed="rId2"/>
          <a:stretch/>
        </p:blipFill>
        <p:spPr>
          <a:xfrm>
            <a:off x="477720" y="2654280"/>
            <a:ext cx="4024440" cy="3787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F2F-A86D-4A01-811D-D001108B0F8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7620120" y="6167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609480" y="3543480"/>
            <a:ext cx="838440" cy="49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34680" y="153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determine high adress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_HIGHADD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選択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図 2" descr=""/>
          <p:cNvPicPr/>
          <p:nvPr/>
        </p:nvPicPr>
        <p:blipFill>
          <a:blip r:embed="rId1"/>
          <a:stretch/>
        </p:blipFill>
        <p:spPr>
          <a:xfrm>
            <a:off x="4572000" y="2532240"/>
            <a:ext cx="3897360" cy="3657600"/>
          </a:xfrm>
          <a:prstGeom prst="rect">
            <a:avLst/>
          </a:prstGeom>
          <a:ln w="0">
            <a:noFill/>
          </a:ln>
        </p:spPr>
      </p:pic>
      <p:pic>
        <p:nvPicPr>
          <p:cNvPr id="272" name="図 1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7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125C-BF0B-41F7-B159-05788DDFA0D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7162920" y="5938920"/>
            <a:ext cx="12189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2133720" y="3622680"/>
            <a:ext cx="21333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図 1" descr=""/>
          <p:cNvPicPr/>
          <p:nvPr/>
        </p:nvPicPr>
        <p:blipFill>
          <a:blip r:embed="rId1"/>
          <a:stretch/>
        </p:blipFill>
        <p:spPr>
          <a:xfrm>
            <a:off x="1886040" y="2031840"/>
            <a:ext cx="4228920" cy="4005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5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E49C-2CE3-4C0A-ACF8-81189BDFCED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4987800" y="57610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終了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7126-4F2E-4668-911A-02E55CB3296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図 1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591080" cy="39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更新され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表示され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図 1" descr=""/>
          <p:cNvPicPr/>
          <p:nvPr/>
        </p:nvPicPr>
        <p:blipFill>
          <a:blip r:embed="rId1"/>
          <a:stretch/>
        </p:blipFill>
        <p:spPr>
          <a:xfrm>
            <a:off x="1954080" y="2286000"/>
            <a:ext cx="4230720" cy="35812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9D9-CC81-412D-A490-E4F35F1E9EE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2120760" y="464832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サンプル用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9973-115E-42EE-9BBE-DB350C36330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正方形/長方形 5"/>
          <p:cNvSpPr/>
          <p:nvPr/>
        </p:nvSpPr>
        <p:spPr>
          <a:xfrm>
            <a:off x="711360" y="1882800"/>
            <a:ext cx="533376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正方形/長方形 6"/>
          <p:cNvSpPr/>
          <p:nvPr/>
        </p:nvSpPr>
        <p:spPr>
          <a:xfrm>
            <a:off x="762120" y="188280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iptobus_DATA = "", DIR = I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bustoip_DATA = "", DIR = O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テキスト ボックス 11"/>
          <p:cNvSpPr/>
          <p:nvPr/>
        </p:nvSpPr>
        <p:spPr>
          <a:xfrm>
            <a:off x="944640" y="151596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正方形/長方形 8"/>
          <p:cNvSpPr/>
          <p:nvPr/>
        </p:nvSpPr>
        <p:spPr>
          <a:xfrm>
            <a:off x="711360" y="4962600"/>
            <a:ext cx="247464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テキスト ボックス 12"/>
          <p:cNvSpPr/>
          <p:nvPr/>
        </p:nvSpPr>
        <p:spPr>
          <a:xfrm>
            <a:off x="795960" y="31449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正方形/長方形 10"/>
          <p:cNvSpPr/>
          <p:nvPr/>
        </p:nvSpPr>
        <p:spPr>
          <a:xfrm>
            <a:off x="711360" y="4987800"/>
            <a:ext cx="3213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=&gt; iptobus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=&gt; Rd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=&gt; Wr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=&gt; bustoip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=&gt; Rd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=&gt; Wr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正方形/長方形 12"/>
          <p:cNvSpPr/>
          <p:nvPr/>
        </p:nvSpPr>
        <p:spPr>
          <a:xfrm>
            <a:off x="711360" y="3514680"/>
            <a:ext cx="6908760" cy="1285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正方形/長方形 13"/>
          <p:cNvSpPr/>
          <p:nvPr/>
        </p:nvSpPr>
        <p:spPr>
          <a:xfrm>
            <a:off x="762120" y="351468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サンプル用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0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7E1B-81F1-45B0-9F8C-A1A8A10D6F1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正方形/長方形 5"/>
          <p:cNvSpPr/>
          <p:nvPr/>
        </p:nvSpPr>
        <p:spPr>
          <a:xfrm>
            <a:off x="685800" y="2060640"/>
            <a:ext cx="5322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正方形/長方形 6"/>
          <p:cNvSpPr/>
          <p:nvPr/>
        </p:nvSpPr>
        <p:spPr>
          <a:xfrm>
            <a:off x="674640" y="2057400"/>
            <a:ext cx="5334120" cy="13716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テキスト ボックス 12"/>
          <p:cNvSpPr/>
          <p:nvPr/>
        </p:nvSpPr>
        <p:spPr>
          <a:xfrm>
            <a:off x="577800" y="1687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正方形/長方形 8"/>
          <p:cNvSpPr/>
          <p:nvPr/>
        </p:nvSpPr>
        <p:spPr>
          <a:xfrm>
            <a:off x="849240" y="3772080"/>
            <a:ext cx="4572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Data  &lt;= iptobus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WrAck &lt;= Wr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RdAck &lt;= Rd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Error &lt;= '0'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&lt;= Bus2IP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&lt;= Bus2IP_Rd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&lt;= Bus2IP_Wr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正方形/長方形 9"/>
          <p:cNvSpPr/>
          <p:nvPr/>
        </p:nvSpPr>
        <p:spPr>
          <a:xfrm>
            <a:off x="838080" y="3733920"/>
            <a:ext cx="5562720" cy="16873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テキスト ボックス 12"/>
          <p:cNvSpPr/>
          <p:nvPr/>
        </p:nvSpPr>
        <p:spPr>
          <a:xfrm>
            <a:off x="5299920" y="3803760"/>
            <a:ext cx="220140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ファイル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回路記述用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1"/>
          <a:stretch/>
        </p:blipFill>
        <p:spPr>
          <a:xfrm>
            <a:off x="1219320" y="2155680"/>
            <a:ext cx="67752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2E45-D4D6-4B25-A89E-B4817490B80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05120" y="25527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905120" y="2263680"/>
            <a:ext cx="618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5449-F3C4-473C-90BF-D354963822BE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340520" cy="377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4" name="Oval 10"/>
          <p:cNvSpPr/>
          <p:nvPr/>
        </p:nvSpPr>
        <p:spPr>
          <a:xfrm>
            <a:off x="3352680" y="617544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72000" y="2639880"/>
            <a:ext cx="4400640" cy="382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6" name="Oval 10"/>
          <p:cNvSpPr/>
          <p:nvPr/>
        </p:nvSpPr>
        <p:spPr>
          <a:xfrm>
            <a:off x="7848720" y="6159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086520" y="358128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F:\document\LSI_CONTEST\ペリフェラル\ペリフェラル作成5.png"/>
          <p:cNvPicPr/>
          <p:nvPr/>
        </p:nvPicPr>
        <p:blipFill>
          <a:blip r:embed="rId1"/>
          <a:stretch/>
        </p:blipFill>
        <p:spPr>
          <a:xfrm>
            <a:off x="4633920" y="2550960"/>
            <a:ext cx="4457520" cy="3875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====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名前を入力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237C-5E61-4494-8901-ADF1738018F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71280" y="2514600"/>
            <a:ext cx="4470480" cy="3886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24" name="Oval 10"/>
          <p:cNvSpPr/>
          <p:nvPr/>
        </p:nvSpPr>
        <p:spPr>
          <a:xfrm>
            <a:off x="152280" y="38098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8001000" y="607392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029200" y="32004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581280" y="61977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3520" y="1413000"/>
            <a:ext cx="85341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-4Li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選択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赤丸のチェックをつけて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4" descr="F:\document\LSI_CONTEST\ペリフェラル\ペリフェラル作成6.png"/>
          <p:cNvPicPr/>
          <p:nvPr/>
        </p:nvPicPr>
        <p:blipFill>
          <a:blip r:embed="rId1"/>
          <a:stretch/>
        </p:blipFill>
        <p:spPr>
          <a:xfrm>
            <a:off x="249120" y="2714760"/>
            <a:ext cx="4214880" cy="3679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3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0E7D-0C19-42F5-A199-26A62B9508E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380880" y="3263760"/>
            <a:ext cx="12193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3352680" y="605628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図 1" descr=""/>
          <p:cNvPicPr/>
          <p:nvPr/>
        </p:nvPicPr>
        <p:blipFill>
          <a:blip r:embed="rId2"/>
          <a:stretch/>
        </p:blipFill>
        <p:spPr>
          <a:xfrm>
            <a:off x="4562640" y="2689200"/>
            <a:ext cx="4259160" cy="3695760"/>
          </a:xfrm>
          <a:prstGeom prst="rect">
            <a:avLst/>
          </a:prstGeom>
          <a:ln w="0">
            <a:noFill/>
          </a:ln>
        </p:spPr>
      </p:pic>
      <p:sp>
        <p:nvSpPr>
          <p:cNvPr id="136" name="Oval 10"/>
          <p:cNvSpPr/>
          <p:nvPr/>
        </p:nvSpPr>
        <p:spPr>
          <a:xfrm>
            <a:off x="6600960" y="4863960"/>
            <a:ext cx="1066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7696080" y="6054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3160" y="141300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（必要な項目はチェッ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F:\document\LSI_CONTEST\ペリフェラル\ペリフェラル作成9.png"/>
          <p:cNvPicPr/>
          <p:nvPr/>
        </p:nvPicPr>
        <p:blipFill>
          <a:blip r:embed="rId1"/>
          <a:stretch/>
        </p:blipFill>
        <p:spPr>
          <a:xfrm>
            <a:off x="2590920" y="2514600"/>
            <a:ext cx="4381560" cy="378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D7FB-DEE6-40D9-A44A-AD0881C8050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867280" y="594360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左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右図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クリ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log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書く場合は一番上をチェ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1" descr="F:\document\LSI_CONTEST\ペリフェラル\ペリフェラル作成10.png"/>
          <p:cNvPicPr/>
          <p:nvPr/>
        </p:nvPicPr>
        <p:blipFill>
          <a:blip r:embed="rId1"/>
          <a:stretch/>
        </p:blipFill>
        <p:spPr>
          <a:xfrm>
            <a:off x="228600" y="3124080"/>
            <a:ext cx="4400640" cy="3308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52F9-F994-4C45-B4E3-5332CD62100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416480" cy="330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50" name="Oval 10"/>
          <p:cNvSpPr/>
          <p:nvPr/>
        </p:nvSpPr>
        <p:spPr>
          <a:xfrm>
            <a:off x="3505320" y="6081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7924680" y="608472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6019920" y="4076640"/>
            <a:ext cx="2097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終了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E4ED-C6CD-4F64-8825-02673DE48E0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F:\document\LSI_CONTEST\ペリフェラル\ペリフェラル作成12.png"/>
          <p:cNvPicPr/>
          <p:nvPr/>
        </p:nvPicPr>
        <p:blipFill>
          <a:blip r:embed="rId1"/>
          <a:stretch/>
        </p:blipFill>
        <p:spPr>
          <a:xfrm>
            <a:off x="2311560" y="1994040"/>
            <a:ext cx="4825800" cy="419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iokawa</dc:creator>
  <dc:description/>
  <dc:language>en-US</dc:language>
  <cp:lastModifiedBy>whirata</cp:lastModifiedBy>
  <dcterms:modified xsi:type="dcterms:W3CDTF">2012-11-20T08:42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