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0B78-E2DE-4606-8ACD-DD4F5DCBA0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1B52-876A-4688-B85F-7A55218B58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8C7D-6F74-43F1-BBEC-2D49361E58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9F25-21CA-416D-BF41-F204743F2C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990D-5335-43C3-94B5-51897D6AA3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F18C-7F17-4C38-B59F-25D773D34D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437C-0E07-4086-BEC5-B2BAF61EF7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8C53-24D3-4A7B-AC14-FD15CDF324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スライド番号プレースホルダー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ED9E-0898-4D58-92B2-129643A7CE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3B0-9E8C-44AC-AE3A-04873168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D06-C2E5-4510-9410-D53E1B41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584-556B-4BDC-B06B-D711DF0C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C2E-1F4A-40C6-AECB-6245F9CC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D182-9A67-4714-953F-5BEFCC23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26AE-4212-4757-8D9A-A4E789BF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AF8E-21E5-4DBC-AA4C-CAF6596F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E36A-A0BC-4589-88D6-27E00FF5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38B1-E9EC-4309-896B-AE993D17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21B1-9521-4FC0-BB61-CA15D25B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A5B4-4F6A-421E-917F-A437D5C6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A6F-D257-4328-86CC-9FFF5B18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32A8-619C-4C89-8309-1BCA92AB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A5CC-525E-4291-B48C-F4BF55A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777D-FA49-4657-866D-BC34EE4F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E13A-48FE-4746-BCEF-4125518B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868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200" y="14130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868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200" y="35920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7A30-9343-4621-86A5-B8EF7E5B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2A1-E3C7-49C5-9FC3-ED14CEBF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663-B570-4C87-BF97-C431A0DB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AC5-7B23-483B-973B-48EB8CA8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410760"/>
            <a:ext cx="79948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A8D-A016-495D-A326-64341610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886-CA1D-4E2F-BE54-8B158CF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3920" y="35920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8DB-03CE-4DC1-B1D9-6D0827C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3920" y="14130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5920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2F0-5DEF-48EF-AFDD-F995A085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hyperlink" Target="http://jimu-www.jimu.kyutech.ac.jp/gakunai/img_date/picture/logomark_E1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308280"/>
            <a:ext cx="381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3DDA-19AD-4678-981E-01F4466AAB2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912960" y="1066680"/>
            <a:ext cx="8231040" cy="381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6" name="Picture 8" descr="MPEGimage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11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912960" y="2057400"/>
            <a:ext cx="82310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_s"/>
          <p:cNvPicPr/>
          <p:nvPr/>
        </p:nvPicPr>
        <p:blipFill>
          <a:blip r:embed="rId3"/>
          <a:stretch/>
        </p:blipFill>
        <p:spPr>
          <a:xfrm>
            <a:off x="7524720" y="5300640"/>
            <a:ext cx="1428840" cy="13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gomark_E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5661000"/>
            <a:ext cx="1141560" cy="1023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09480" y="410760"/>
            <a:ext cx="7994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41768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3592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8531-6903-48FE-9E9B-521ABD83B0F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3D92-9B7A-4E04-9452-C086E312466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1360" y="850680"/>
            <a:ext cx="772128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and Import Peripheral</a:t>
            </a:r>
            <a:br>
              <a:rPr sz="3600"/>
            </a:b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For Microblaze</a:t>
            </a:r>
            <a:r>
              <a:rPr b="0" lang="ja-JP" sz="3600" spc="-1" strike="noStrike">
                <a:solidFill>
                  <a:srgbClr val="6c3a3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ver AXI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Sept /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aru Hi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520" y="1495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folder\pcores\test_v1_00_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図 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211800" cy="4191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EB57-B550-468B-B4C9-90882C32088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2895480" y="32767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MPD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folder\pcores\test_v1_00_a\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F:\document\LSI_CONTEST\ペリフェラル\ペリフェラル作成15.png"/>
          <p:cNvPicPr/>
          <p:nvPr/>
        </p:nvPicPr>
        <p:blipFill>
          <a:blip r:embed="rId1"/>
          <a:stretch/>
        </p:blipFill>
        <p:spPr>
          <a:xfrm>
            <a:off x="1227240" y="2590920"/>
            <a:ext cx="6400800" cy="3956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6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ACD1-FDC0-429A-A023-6D87CABF57C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3048120" y="375444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480" y="152352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nput or output information within red fr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0" descr="F:\document\LSI_CONTEST\ペリフェラル\ペリフェラル作成16.png"/>
          <p:cNvPicPr/>
          <p:nvPr/>
        </p:nvPicPr>
        <p:blipFill>
          <a:blip r:embed="rId1"/>
          <a:stretch/>
        </p:blipFill>
        <p:spPr>
          <a:xfrm>
            <a:off x="385920" y="2070000"/>
            <a:ext cx="5027400" cy="4546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MP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7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9212-784B-4615-827E-3D5B228C496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85800" y="4267080"/>
            <a:ext cx="1676520" cy="15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右矢印 2"/>
          <p:cNvSpPr/>
          <p:nvPr/>
        </p:nvSpPr>
        <p:spPr>
          <a:xfrm>
            <a:off x="2506680" y="4202280"/>
            <a:ext cx="1150920" cy="304560"/>
          </a:xfrm>
          <a:prstGeom prst="rightArrow">
            <a:avLst>
              <a:gd name="adj1" fmla="val 50000"/>
              <a:gd name="adj2" fmla="val 5007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テキスト ボックス 5"/>
          <p:cNvSpPr/>
          <p:nvPr/>
        </p:nvSpPr>
        <p:spPr>
          <a:xfrm>
            <a:off x="3830760" y="4178160"/>
            <a:ext cx="522252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Signal Name= “”, DIR = I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O, VEC = 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Wid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 cnt_num = "", DIR = O, VEC = [0:31]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3" descr="F:\document\LSI_CONTEST\ペリフェラル\ペリフェラル作成14.png"/>
          <p:cNvPicPr/>
          <p:nvPr/>
        </p:nvPicPr>
        <p:blipFill>
          <a:blip r:embed="rId1"/>
          <a:stretch/>
        </p:blipFill>
        <p:spPr>
          <a:xfrm>
            <a:off x="1195560" y="1967040"/>
            <a:ext cx="3778200" cy="2896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F:\document\LSI_CONTEST\ペリフェラル\ペリフェラル作成17.png"/>
          <p:cNvPicPr/>
          <p:nvPr/>
        </p:nvPicPr>
        <p:blipFill>
          <a:blip r:embed="rId2"/>
          <a:stretch/>
        </p:blipFill>
        <p:spPr>
          <a:xfrm>
            <a:off x="2971800" y="2819520"/>
            <a:ext cx="4449600" cy="2533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8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E19F-9707-4C50-B7CC-21B31FB573F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2170080" y="297828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16" descr="F:\document\LSI_CONTEST\ペリフェラル\ペリフェラル作成18.png"/>
          <p:cNvPicPr/>
          <p:nvPr/>
        </p:nvPicPr>
        <p:blipFill>
          <a:blip r:embed="rId3"/>
          <a:stretch/>
        </p:blipFill>
        <p:spPr>
          <a:xfrm>
            <a:off x="4684680" y="3938760"/>
            <a:ext cx="3975120" cy="2277720"/>
          </a:xfrm>
          <a:prstGeom prst="rect">
            <a:avLst/>
          </a:prstGeom>
          <a:ln w="0">
            <a:noFill/>
          </a:ln>
        </p:spPr>
      </p:pic>
      <p:sp>
        <p:nvSpPr>
          <p:cNvPr id="185" name="Oval 10"/>
          <p:cNvSpPr/>
          <p:nvPr/>
        </p:nvSpPr>
        <p:spPr>
          <a:xfrm>
            <a:off x="5632560" y="4667400"/>
            <a:ext cx="838080" cy="40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4145040" y="3733920"/>
            <a:ext cx="647640" cy="152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テキスト ボックス 1"/>
          <p:cNvSpPr/>
          <p:nvPr/>
        </p:nvSpPr>
        <p:spPr>
          <a:xfrm>
            <a:off x="662040" y="4205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テキスト ボックス 12"/>
          <p:cNvSpPr/>
          <p:nvPr/>
        </p:nvSpPr>
        <p:spPr>
          <a:xfrm>
            <a:off x="2438280" y="484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テキスト ボックス 13"/>
          <p:cNvSpPr/>
          <p:nvPr/>
        </p:nvSpPr>
        <p:spPr>
          <a:xfrm>
            <a:off x="4202280" y="574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52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VHD file(.vhd)in the following st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7240" y="15426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signal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conte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9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31CA-333C-4B3E-8802-E73312036D3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13" descr="F:\document\LSI_CONTEST\ペリフェラル\ペリフェラル作成19.png"/>
          <p:cNvPicPr/>
          <p:nvPr/>
        </p:nvPicPr>
        <p:blipFill>
          <a:blip r:embed="rId1"/>
          <a:stretch/>
        </p:blipFill>
        <p:spPr>
          <a:xfrm>
            <a:off x="4952880" y="1981080"/>
            <a:ext cx="4023000" cy="3994200"/>
          </a:xfrm>
          <a:prstGeom prst="rect">
            <a:avLst/>
          </a:prstGeom>
          <a:ln w="0">
            <a:noFill/>
          </a:ln>
        </p:spPr>
      </p:pic>
      <p:sp>
        <p:nvSpPr>
          <p:cNvPr id="196" name="テキスト ボックス 7"/>
          <p:cNvSpPr/>
          <p:nvPr/>
        </p:nvSpPr>
        <p:spPr>
          <a:xfrm>
            <a:off x="76320" y="4114800"/>
            <a:ext cx="6370560" cy="92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: in or out std_logic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:1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: in or out std_logic_vector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Wid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:Multiple bi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.)cnt_num : out std_logic_vector(0 to 31)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5611680" y="5479920"/>
            <a:ext cx="1670040" cy="23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右矢印 6"/>
          <p:cNvSpPr/>
          <p:nvPr/>
        </p:nvSpPr>
        <p:spPr>
          <a:xfrm rot="1498200">
            <a:off x="4698720" y="5221080"/>
            <a:ext cx="906480" cy="304560"/>
          </a:xfrm>
          <a:prstGeom prst="rightArrow">
            <a:avLst>
              <a:gd name="adj1" fmla="val 50000"/>
              <a:gd name="adj2" fmla="val 5007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1"/>
          <a:stretch/>
        </p:blipFill>
        <p:spPr>
          <a:xfrm>
            <a:off x="609480" y="2075040"/>
            <a:ext cx="4602240" cy="33289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457200"/>
            <a:ext cx="7994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02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AF15-8FF1-495B-8ABD-CBB36B917CC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右矢印 6"/>
          <p:cNvSpPr/>
          <p:nvPr/>
        </p:nvSpPr>
        <p:spPr>
          <a:xfrm rot="10800000">
            <a:off x="3603240" y="4167360"/>
            <a:ext cx="1219320" cy="304560"/>
          </a:xfrm>
          <a:prstGeom prst="rightArrow">
            <a:avLst>
              <a:gd name="adj1" fmla="val 50000"/>
              <a:gd name="adj2" fmla="val 50044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テキスト ボックス 7"/>
          <p:cNvSpPr/>
          <p:nvPr/>
        </p:nvSpPr>
        <p:spPr>
          <a:xfrm>
            <a:off x="5145120" y="3840120"/>
            <a:ext cx="335268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 Name =&gt; Signal Name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.)  cnt_num =&gt; cnt_num,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066680" y="4159080"/>
            <a:ext cx="1600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dit file (.VHD)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208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666720" y="1676520"/>
            <a:ext cx="7094520" cy="4171680"/>
          </a:xfrm>
          <a:prstGeom prst="rect">
            <a:avLst/>
          </a:prstGeom>
          <a:ln w="0">
            <a:noFill/>
          </a:ln>
        </p:spPr>
      </p:pic>
      <p:sp>
        <p:nvSpPr>
          <p:cNvPr id="20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E07B-D98A-4B15-B143-EEC060AB041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円/楕円 6"/>
          <p:cNvSpPr/>
          <p:nvPr/>
        </p:nvSpPr>
        <p:spPr>
          <a:xfrm>
            <a:off x="915840" y="4343400"/>
            <a:ext cx="24386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右矢印 6"/>
          <p:cNvSpPr/>
          <p:nvPr/>
        </p:nvSpPr>
        <p:spPr>
          <a:xfrm rot="10800000">
            <a:off x="3505320" y="4809600"/>
            <a:ext cx="121896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テキスト ボックス 7"/>
          <p:cNvSpPr/>
          <p:nvPr/>
        </p:nvSpPr>
        <p:spPr>
          <a:xfrm>
            <a:off x="4952880" y="4792680"/>
            <a:ext cx="2629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uit Descrip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2760" y="15998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図 1" descr=""/>
          <p:cNvPicPr/>
          <p:nvPr/>
        </p:nvPicPr>
        <p:blipFill>
          <a:blip r:embed="rId1"/>
          <a:stretch/>
        </p:blipFill>
        <p:spPr>
          <a:xfrm>
            <a:off x="657360" y="2263680"/>
            <a:ext cx="7327800" cy="4038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1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66B5-5D3C-4A3A-9131-88C417AAED94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1447920" y="26859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1512720" y="2309760"/>
            <a:ext cx="619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583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mport existing peripheral and 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23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4A26-9CC5-49D1-BE5F-8555619B615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6320" y="2743200"/>
            <a:ext cx="438300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6" name="Oval 10"/>
          <p:cNvSpPr/>
          <p:nvPr/>
        </p:nvSpPr>
        <p:spPr>
          <a:xfrm>
            <a:off x="7924680" y="60958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3352680" y="61070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38300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29" name="Oval 10"/>
          <p:cNvSpPr/>
          <p:nvPr/>
        </p:nvSpPr>
        <p:spPr>
          <a:xfrm>
            <a:off x="6095880" y="3848040"/>
            <a:ext cx="1295640" cy="114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図 2" descr=""/>
          <p:cNvPicPr/>
          <p:nvPr/>
        </p:nvPicPr>
        <p:blipFill>
          <a:blip r:embed="rId1"/>
          <a:stretch/>
        </p:blipFill>
        <p:spPr>
          <a:xfrm>
            <a:off x="4800600" y="2778120"/>
            <a:ext cx="4086360" cy="3538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32" name="フッター プレースホルダー 3"/>
          <p:cNvSpPr/>
          <p:nvPr/>
        </p:nvSpPr>
        <p:spPr>
          <a:xfrm>
            <a:off x="2301840" y="633564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0D56-F21C-4866-B405-D841594EE811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52280" y="2627280"/>
            <a:ext cx="4418280" cy="3840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6524640" y="914400"/>
            <a:ext cx="2610000" cy="1087560"/>
          </a:xfrm>
          <a:prstGeom prst="rect">
            <a:avLst/>
          </a:prstGeom>
          <a:ln w="0">
            <a:noFill/>
          </a:ln>
        </p:spPr>
      </p:pic>
      <p:sp>
        <p:nvSpPr>
          <p:cNvPr id="236" name="下矢印 2"/>
          <p:cNvSpPr/>
          <p:nvPr/>
        </p:nvSpPr>
        <p:spPr>
          <a:xfrm rot="10800000">
            <a:off x="7619760" y="2099880"/>
            <a:ext cx="533160" cy="700200"/>
          </a:xfrm>
          <a:prstGeom prst="downArrow">
            <a:avLst>
              <a:gd name="adj1" fmla="val 50000"/>
              <a:gd name="adj2" fmla="val 50057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3448080" y="62085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5181480" y="356724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7296120" y="1676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7886880" y="59799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160" y="12790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Left figure, Select the name which you mak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peripheral, and Click the Next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right figure is displayed on the screen, and Click the yes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1360" y="1405080"/>
            <a:ext cx="772128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The Main Flow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 file(.MPD, .VHD, .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フッター プレースホルダー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スライド番号プレースホルダー 4"/>
          <p:cNvSpPr/>
          <p:nvPr/>
        </p:nvSpPr>
        <p:spPr>
          <a:xfrm>
            <a:off x="713592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AB3F-82E3-48C0-A817-EC35841C2333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ECF5-3AA0-4145-985A-C6255DEFD14B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7212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47" name="Oval 10"/>
          <p:cNvSpPr/>
          <p:nvPr/>
        </p:nvSpPr>
        <p:spPr>
          <a:xfrm>
            <a:off x="5867280" y="611496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図 1" descr=""/>
          <p:cNvPicPr/>
          <p:nvPr/>
        </p:nvPicPr>
        <p:blipFill>
          <a:blip r:embed="rId1"/>
          <a:stretch/>
        </p:blipFill>
        <p:spPr>
          <a:xfrm>
            <a:off x="4572000" y="2724120"/>
            <a:ext cx="4183200" cy="37911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to implement your peripheral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→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Use existing Periphral Analysis Order file (*pa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\your working folder/pcores/Name_v1_00_a/data/PAO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D697-1118-4921-87BA-4297A883201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112680" y="2720880"/>
            <a:ext cx="4295880" cy="3733920"/>
          </a:xfrm>
          <a:prstGeom prst="rect">
            <a:avLst/>
          </a:prstGeom>
          <a:ln w="0">
            <a:noFill/>
          </a:ln>
        </p:spPr>
      </p:pic>
      <p:sp>
        <p:nvSpPr>
          <p:cNvPr id="254" name="Oval 10"/>
          <p:cNvSpPr/>
          <p:nvPr/>
        </p:nvSpPr>
        <p:spPr>
          <a:xfrm>
            <a:off x="1639800" y="3200400"/>
            <a:ext cx="620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177840" y="4952880"/>
            <a:ext cx="18478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3606840" y="510696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下矢印 10"/>
          <p:cNvSpPr/>
          <p:nvPr/>
        </p:nvSpPr>
        <p:spPr>
          <a:xfrm rot="16200000">
            <a:off x="4552920" y="4849560"/>
            <a:ext cx="342720" cy="777960"/>
          </a:xfrm>
          <a:prstGeom prst="down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9ffcc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round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7601040" y="588636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CC91-BB73-441D-8DA2-84A73FF87FCD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29552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263" name="Oval 10"/>
          <p:cNvSpPr/>
          <p:nvPr/>
        </p:nvSpPr>
        <p:spPr>
          <a:xfrm>
            <a:off x="5562720" y="624348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he Next button, and the grammar of renewed file will be che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ailed, errors are displayed on the screen. It points out where you make errors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lecting Slave of AX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, 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図 2" descr=""/>
          <p:cNvPicPr/>
          <p:nvPr/>
        </p:nvPicPr>
        <p:blipFill>
          <a:blip r:embed="rId1"/>
          <a:stretch/>
        </p:blipFill>
        <p:spPr>
          <a:xfrm>
            <a:off x="4648320" y="2706840"/>
            <a:ext cx="3987720" cy="3757320"/>
          </a:xfrm>
          <a:prstGeom prst="rect">
            <a:avLst/>
          </a:prstGeom>
          <a:ln w="0">
            <a:noFill/>
          </a:ln>
        </p:spPr>
      </p:pic>
      <p:pic>
        <p:nvPicPr>
          <p:cNvPr id="267" name="図 1" descr=""/>
          <p:cNvPicPr/>
          <p:nvPr/>
        </p:nvPicPr>
        <p:blipFill>
          <a:blip r:embed="rId2"/>
          <a:stretch/>
        </p:blipFill>
        <p:spPr>
          <a:xfrm>
            <a:off x="477720" y="2654280"/>
            <a:ext cx="4024440" cy="3787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6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8D5-9393-4716-B499-947B0255403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7620120" y="6167520"/>
            <a:ext cx="6476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609480" y="3543480"/>
            <a:ext cx="838440" cy="49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34680" y="153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Selecting C_HIGHADDR of Parameter determine high adress, Click the Next button in Lef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図 2" descr=""/>
          <p:cNvPicPr/>
          <p:nvPr/>
        </p:nvPicPr>
        <p:blipFill>
          <a:blip r:embed="rId1"/>
          <a:stretch/>
        </p:blipFill>
        <p:spPr>
          <a:xfrm>
            <a:off x="4572000" y="2532240"/>
            <a:ext cx="3897360" cy="3657600"/>
          </a:xfrm>
          <a:prstGeom prst="rect">
            <a:avLst/>
          </a:prstGeom>
          <a:ln w="0">
            <a:noFill/>
          </a:ln>
        </p:spPr>
      </p:pic>
      <p:pic>
        <p:nvPicPr>
          <p:cNvPr id="275" name="図 1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809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77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B5C5-4105-4AF8-A334-3DC8138C15B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7162920" y="5938920"/>
            <a:ext cx="12189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2133720" y="3622680"/>
            <a:ext cx="21333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図 1" descr=""/>
          <p:cNvPicPr/>
          <p:nvPr/>
        </p:nvPicPr>
        <p:blipFill>
          <a:blip r:embed="rId1"/>
          <a:stretch/>
        </p:blipFill>
        <p:spPr>
          <a:xfrm>
            <a:off x="1886040" y="2031840"/>
            <a:ext cx="4228920" cy="4005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52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D71B-A874-4CC5-A33F-C2834BAD354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4987800" y="576108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Finish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AA07-5416-4FB8-82CB-CC720A9532F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図 1" descr=""/>
          <p:cNvPicPr/>
          <p:nvPr/>
        </p:nvPicPr>
        <p:blipFill>
          <a:blip r:embed="rId1"/>
          <a:stretch/>
        </p:blipFill>
        <p:spPr>
          <a:xfrm>
            <a:off x="2181240" y="2057400"/>
            <a:ext cx="4591080" cy="39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図 1" descr=""/>
          <p:cNvPicPr/>
          <p:nvPr/>
        </p:nvPicPr>
        <p:blipFill>
          <a:blip r:embed="rId1"/>
          <a:stretch/>
        </p:blipFill>
        <p:spPr>
          <a:xfrm>
            <a:off x="1954080" y="2286000"/>
            <a:ext cx="4230720" cy="35812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Import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4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32B8-A828-40AC-BDA6-5074919FDCF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2120760" y="4648320"/>
            <a:ext cx="648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IP is displayed on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299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892-D2D3-4370-8633-370BE880DB39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正方形/長方形 5"/>
          <p:cNvSpPr/>
          <p:nvPr/>
        </p:nvSpPr>
        <p:spPr>
          <a:xfrm>
            <a:off x="711360" y="1882800"/>
            <a:ext cx="533376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正方形/長方形 6"/>
          <p:cNvSpPr/>
          <p:nvPr/>
        </p:nvSpPr>
        <p:spPr>
          <a:xfrm>
            <a:off x="762120" y="188280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iptobus_DATA = "", DIR = I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ACK = "", DIR = I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bustoip_DATA = "", DIR = O, VEC = [(C_SLV_DWIDTH-1):0], ENDIAN = LITTLE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Rd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 Wr_EN = "", DIR = 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テキスト ボックス 11"/>
          <p:cNvSpPr/>
          <p:nvPr/>
        </p:nvSpPr>
        <p:spPr>
          <a:xfrm>
            <a:off x="715320" y="150984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MP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正方形/長方形 8"/>
          <p:cNvSpPr/>
          <p:nvPr/>
        </p:nvSpPr>
        <p:spPr>
          <a:xfrm>
            <a:off x="711360" y="4962600"/>
            <a:ext cx="2474640" cy="1170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テキスト ボックス 12"/>
          <p:cNvSpPr/>
          <p:nvPr/>
        </p:nvSpPr>
        <p:spPr>
          <a:xfrm>
            <a:off x="716400" y="31449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test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正方形/長方形 10"/>
          <p:cNvSpPr/>
          <p:nvPr/>
        </p:nvSpPr>
        <p:spPr>
          <a:xfrm>
            <a:off x="711360" y="4987800"/>
            <a:ext cx="3213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=&gt; iptobus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=&gt; Rd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=&gt; Wr_ACK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=&gt; bustoip_DATA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=&gt; Rd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=&gt; Wr_EN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正方形/長方形 12"/>
          <p:cNvSpPr/>
          <p:nvPr/>
        </p:nvSpPr>
        <p:spPr>
          <a:xfrm>
            <a:off x="711360" y="3514680"/>
            <a:ext cx="6908760" cy="1285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正方形/長方形 13"/>
          <p:cNvSpPr/>
          <p:nvPr/>
        </p:nvSpPr>
        <p:spPr>
          <a:xfrm>
            <a:off x="762120" y="3514680"/>
            <a:ext cx="5638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31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AF38-B90C-4676-847C-F0A0A0996572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正方形/長方形 5"/>
          <p:cNvSpPr/>
          <p:nvPr/>
        </p:nvSpPr>
        <p:spPr>
          <a:xfrm>
            <a:off x="685800" y="2060640"/>
            <a:ext cx="5322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tobus_DATA                    : in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ACK                          : in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                   : out  std_logic_vector(C_SLV_DWIDTH-1 downto 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                          : out  std_logic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正方形/長方形 6"/>
          <p:cNvSpPr/>
          <p:nvPr/>
        </p:nvSpPr>
        <p:spPr>
          <a:xfrm>
            <a:off x="674640" y="2057400"/>
            <a:ext cx="5334120" cy="13716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テキスト ボックス 12"/>
          <p:cNvSpPr/>
          <p:nvPr/>
        </p:nvSpPr>
        <p:spPr>
          <a:xfrm>
            <a:off x="558720" y="16876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user_logic.vhd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正方形/長方形 8"/>
          <p:cNvSpPr/>
          <p:nvPr/>
        </p:nvSpPr>
        <p:spPr>
          <a:xfrm>
            <a:off x="849240" y="3772080"/>
            <a:ext cx="457200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Data  &lt;= iptobus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WrAck &lt;= Wr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RdAck &lt;= Rd_ACK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P2Bus_Error &lt;= '0'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toip_DATA &lt;= Bus2IP_Data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d_EN &lt;= Bus2IP_Rd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r_EN &lt;= Bus2IP_WrCE(0);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正方形/長方形 9"/>
          <p:cNvSpPr/>
          <p:nvPr/>
        </p:nvSpPr>
        <p:spPr>
          <a:xfrm>
            <a:off x="838080" y="3733920"/>
            <a:ext cx="5562720" cy="16873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テキスト ボックス 12"/>
          <p:cNvSpPr/>
          <p:nvPr/>
        </p:nvSpPr>
        <p:spPr>
          <a:xfrm>
            <a:off x="5241240" y="3803760"/>
            <a:ext cx="231876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_logic.vhd fi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Circuit Descrip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Import Periph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1"/>
          <a:stretch/>
        </p:blipFill>
        <p:spPr>
          <a:xfrm>
            <a:off x="1219320" y="2155680"/>
            <a:ext cx="67752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CD7A-3707-4728-B059-85A7F013BA76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05120" y="255276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905120" y="2263680"/>
            <a:ext cx="618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AFA1-AE26-4F48-B5A1-8B7ED675B955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340520" cy="377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4" name="Oval 10"/>
          <p:cNvSpPr/>
          <p:nvPr/>
        </p:nvSpPr>
        <p:spPr>
          <a:xfrm>
            <a:off x="3352680" y="617544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72000" y="2639880"/>
            <a:ext cx="4400640" cy="3826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16" name="Oval 10"/>
          <p:cNvSpPr/>
          <p:nvPr/>
        </p:nvSpPr>
        <p:spPr>
          <a:xfrm>
            <a:off x="7848720" y="6159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6086520" y="3581280"/>
            <a:ext cx="14572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F:\document\LSI_CONTEST\ペリフェラル\ペリフェラル作成5.png"/>
          <p:cNvPicPr/>
          <p:nvPr/>
        </p:nvPicPr>
        <p:blipFill>
          <a:blip r:embed="rId1"/>
          <a:stretch/>
        </p:blipFill>
        <p:spPr>
          <a:xfrm>
            <a:off x="4633920" y="2743200"/>
            <a:ext cx="4457520" cy="3683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an XPS project and Click the Next button in lef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the name of the peripheral and Click the Next button in Right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5B7C-C907-4727-A802-E064A010A3EA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71280" y="2743200"/>
            <a:ext cx="4470480" cy="36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24" name="Oval 10"/>
          <p:cNvSpPr/>
          <p:nvPr/>
        </p:nvSpPr>
        <p:spPr>
          <a:xfrm>
            <a:off x="128520" y="402264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7975440" y="613728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800600" y="3429000"/>
            <a:ext cx="9144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429000" y="608328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4" descr="F:\document\LSI_CONTEST\ペリフェラル\ペリフェラル作成6.png"/>
          <p:cNvPicPr/>
          <p:nvPr/>
        </p:nvPicPr>
        <p:blipFill>
          <a:blip r:embed="rId1"/>
          <a:stretch/>
        </p:blipFill>
        <p:spPr>
          <a:xfrm>
            <a:off x="249120" y="2714760"/>
            <a:ext cx="4214880" cy="3679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30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F5E7-F2EE-4137-AFF9-BD7CB8349280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0880" y="3263760"/>
            <a:ext cx="12193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3352680" y="605628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図 1" descr=""/>
          <p:cNvPicPr/>
          <p:nvPr/>
        </p:nvPicPr>
        <p:blipFill>
          <a:blip r:embed="rId2"/>
          <a:stretch/>
        </p:blipFill>
        <p:spPr>
          <a:xfrm>
            <a:off x="4562640" y="2689200"/>
            <a:ext cx="4259160" cy="3695760"/>
          </a:xfrm>
          <a:prstGeom prst="rect">
            <a:avLst/>
          </a:prstGeom>
          <a:ln w="0">
            <a:noFill/>
          </a:ln>
        </p:spPr>
      </p:pic>
      <p:sp>
        <p:nvSpPr>
          <p:cNvPr id="135" name="Oval 10"/>
          <p:cNvSpPr/>
          <p:nvPr/>
        </p:nvSpPr>
        <p:spPr>
          <a:xfrm>
            <a:off x="6600960" y="4863960"/>
            <a:ext cx="1066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7696080" y="6054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413000"/>
            <a:ext cx="853416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XI-4Lite and 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nclude data phase timer and 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3160" y="141300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Next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1" descr="F:\document\LSI_CONTEST\ペリフェラル\ペリフェラル作成9.png"/>
          <p:cNvPicPr/>
          <p:nvPr/>
        </p:nvPicPr>
        <p:blipFill>
          <a:blip r:embed="rId1"/>
          <a:stretch/>
        </p:blipFill>
        <p:spPr>
          <a:xfrm>
            <a:off x="2590920" y="2514600"/>
            <a:ext cx="4381560" cy="378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1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A743-A6F6-42E6-A909-371EA4F359B7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867280" y="594360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1" descr="F:\document\LSI_CONTEST\ペリフェラル\ペリフェラル作成10.png"/>
          <p:cNvPicPr/>
          <p:nvPr/>
        </p:nvPicPr>
        <p:blipFill>
          <a:blip r:embed="rId1"/>
          <a:stretch/>
        </p:blipFill>
        <p:spPr>
          <a:xfrm>
            <a:off x="228600" y="3124080"/>
            <a:ext cx="4400640" cy="3308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46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47DF-140B-439B-95E6-D4CCE3F58918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416480" cy="330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</p:pic>
      <p:sp>
        <p:nvSpPr>
          <p:cNvPr id="149" name="Oval 10"/>
          <p:cNvSpPr/>
          <p:nvPr/>
        </p:nvSpPr>
        <p:spPr>
          <a:xfrm>
            <a:off x="3505320" y="608184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7924680" y="608472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6019920" y="4076640"/>
            <a:ext cx="20970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Lef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he Next button in Right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ff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rite a program using Verilog, Check the top CheckBo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11120"/>
            <a:ext cx="79948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c3a3a"/>
                </a:solidFill>
                <a:latin typeface="Times New Roman"/>
              </a:rPr>
              <a:t>Create Peripheral</a:t>
            </a:r>
            <a:endParaRPr b="0" lang="en-US" sz="3600" spc="-1" strike="noStrike">
              <a:solidFill>
                <a:srgbClr val="6c3a3a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4130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he Finish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フッター プレースホルダー 3"/>
          <p:cNvSpPr/>
          <p:nvPr/>
        </p:nvSpPr>
        <p:spPr>
          <a:xfrm>
            <a:off x="2303640" y="6327720"/>
            <a:ext cx="45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How to use Microblaz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スライド番号プレースホルダー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F4C5-3F89-402B-8969-A4FA3B10239C}" type="slidenum">
              <a:rPr b="0" lang="en-US" sz="1400" spc="-1" strike="noStrike">
                <a:solidFill>
                  <a:srgbClr val="5e574e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F:\document\LSI_CONTEST\ペリフェラル\ペリフェラル作成12.png"/>
          <p:cNvPicPr/>
          <p:nvPr/>
        </p:nvPicPr>
        <p:blipFill>
          <a:blip r:embed="rId1"/>
          <a:stretch/>
        </p:blipFill>
        <p:spPr>
          <a:xfrm>
            <a:off x="2311560" y="1994040"/>
            <a:ext cx="4825800" cy="419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iokawa</dc:creator>
  <dc:description/>
  <dc:language>en-US</dc:language>
  <cp:lastModifiedBy>whirata</cp:lastModifiedBy>
  <cp:lastPrinted>2012-09-28T04:19:07Z</cp:lastPrinted>
  <dcterms:modified xsi:type="dcterms:W3CDTF">2012-11-20T08:43:31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