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39D4-B713-4BAE-AB93-F6E4C021DD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53C-EEA3-4CF0-AFD7-55AF890119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9DE-90DC-4ACC-B580-B0DBBA142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CD3B-F66D-4724-BDA9-F949AAC22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FE1-0315-4004-94EE-CA4403139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D4B3-E120-46A4-ADD5-9CD8388277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E71-320F-49DC-B772-BA16DFF7D3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C6E-0545-4843-ACF5-FF33D7D179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546-D166-42A9-898A-92E0CE31C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D3B-A144-4835-B070-F55AB1A2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93A-C90C-486A-8CD4-A8C1694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7FE-671D-4785-BB24-5F6EFB39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FD2-65B4-458B-AFAA-9B61EE74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0DD-1034-47CA-93FD-6053D8F9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E0A9-FBB2-4F33-8FCB-3EC6F8D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649-99B4-4AA3-B9CC-81A72A3F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6B1E-3C4C-46BF-86D4-2CAF65A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DBFE-EE4E-40BA-819E-C5593CCA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58C6-5C88-4CB7-96D0-C5D2D345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93E-CB01-47D2-B33B-CCEFC28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D2E-0CAB-47CF-991E-302685C6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DB4E-0472-40C7-97F0-6900121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40C7-82C1-4D33-B779-7D3C177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F46-C39A-493E-8198-DE0E7512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727-FF8C-40C3-AF39-4824E2C4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D80-9170-4083-9BC7-AA9EA6FD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229-E969-4A64-90AF-7D204F41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50A-AF2D-4FD1-9AB1-A804185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6EC-B701-4847-95FF-E2E11B07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527-C9C5-4A4A-8FF9-1187BCF5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5F3-20DA-49FC-83B6-12D252FD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89B-E645-4EA6-B0C3-301A41B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9DB-5CAC-42DE-8427-1C740B6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FFA2-2191-4906-860E-A3BAF30BEA4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D46-1298-4114-B143-6839013355F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E49-6A79-4BBD-9E3D-7FC981094FF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作業中のフォル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C4C-E2E7-40D5-91CE-051DA2B6CE4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フォルダ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8CC-8213-44F0-9D3D-D2BEA9BFDA8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1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赤丸の部分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記述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4DD-FB5E-4A14-98B9-2D415CF5A77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4006080" y="4178160"/>
            <a:ext cx="451476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例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下の手順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.vhd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89A0-F792-4505-A8CF-31328AEBF3E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6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の追加（同じ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2C1-AB17-41D9-9C5E-9DB12BEEF79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3" name="テキスト ボックス 7"/>
          <p:cNvSpPr/>
          <p:nvPr/>
        </p:nvSpPr>
        <p:spPr>
          <a:xfrm>
            <a:off x="76320" y="4114800"/>
            <a:ext cx="55623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_vector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複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さらに編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6DB3-8ABD-4D76-9589-84F9ADACE9C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5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CB5-3AE7-4191-8703-64D87B27014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テキスト ボックス 7"/>
          <p:cNvSpPr/>
          <p:nvPr/>
        </p:nvSpPr>
        <p:spPr>
          <a:xfrm>
            <a:off x="5067360" y="4776840"/>
            <a:ext cx="19429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回路記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4DC8-6309-409A-9008-0E6BD5C50BD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existing 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チェックし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4E3-73A2-4B98-9F8A-078BF2F649A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4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6095880" y="3733920"/>
            <a:ext cx="1295640" cy="114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作った名前を選択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、右上図が出ます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0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F8B-9DB9-4FB3-8BE8-0187E835AFA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4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主な流れ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てんぷ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0A54-C705-4396-9345-ADC38BC056B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5DC7-C065-4F98-B92E-C1F4CC72BA1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4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Periphral Analysis Order file (*pao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チェ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作業フォル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cores/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v1_00_a/data/PA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ファイルを選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A032-5D5D-4E5F-AAA0-1DBBDC02A60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そのま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書き換えたファイルの文法チェックが始まり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失敗するとエラーが表示され、どこが悪いのか指摘してくれ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精度が悪い（一つのミスで何個もエラーが表示されることがある）のでできるだけ丁寧に書き換えを行ってくだ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A436-46C7-4FA8-B35A-B6D602CB10F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1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4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587-12F9-446F-B90A-952097E1728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determine high adres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HIGHADD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359B-5A32-4895-8D85-11ECE93D5C6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214-61E8-4251-A955-9A27A98CCCD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8B2A-58C0-45FC-BAD3-C5299E67D99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更新され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表示され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514A-9B41-4C8C-B05E-E0470BC43A0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81A-FA7F-4140-B5B6-3D10032D220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テキスト ボックス 11"/>
          <p:cNvSpPr/>
          <p:nvPr/>
        </p:nvSpPr>
        <p:spPr>
          <a:xfrm>
            <a:off x="944640" y="1515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テキスト ボックス 12"/>
          <p:cNvSpPr/>
          <p:nvPr/>
        </p:nvSpPr>
        <p:spPr>
          <a:xfrm>
            <a:off x="795960" y="31449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0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53F-652B-4C4E-8494-EE8526DAA5F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テキスト ボックス 12"/>
          <p:cNvSpPr/>
          <p:nvPr/>
        </p:nvSpPr>
        <p:spPr>
          <a:xfrm>
            <a:off x="577800" y="1687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299920" y="3803760"/>
            <a:ext cx="220140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回路記述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84D-C0E1-4428-A9F0-0B3C9D0ADAB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EBE-7E9F-45DF-9BE3-907B4A59DDC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550960"/>
            <a:ext cx="4457520" cy="3875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====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名前を入力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BBA1-377F-4B81-9BCD-4C2CCA91342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514600"/>
            <a:ext cx="4470480" cy="38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52280" y="38098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8001000" y="607392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029200" y="32004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581280" y="61977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-4Li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選択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赤丸のチェックをつけて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C7EF-619F-4A4B-AC89-37380303243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（必要な項目はチェッ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90E-0ECF-4286-963F-89C7ECE924F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lo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書く場合は一番上をチェ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8527-2165-4D03-A71A-1008BB2C521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50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5C86-872B-4A38-B10D-289C6BCF218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dcterms:modified xsi:type="dcterms:W3CDTF">2012-11-20T08:42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