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DA05-5D32-4684-91BC-4578E2125C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5CF9-BE6C-4EA5-B72D-B6D91DCE4F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CCDF-9177-4B13-9735-93BD85C034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3698-4B05-4392-B33E-FA5B9C6FF2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C67D-FA83-438A-8CD3-FBDE77BA51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D86C-B49D-48CB-8C04-465EDAFFF4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4D1F-FBA7-42E2-B819-3EAE10EA04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76AC-8E16-4A11-B4D1-8E22A21D0F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FE57-525C-439B-899A-EB720719F6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A55C-1DE8-4A97-B8ED-2B54374E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7D2-F045-42AD-95EE-E1E9FAF7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E14-3FE5-4BF5-B486-FE4CB862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AC2-A1D2-46A0-93AF-A49F8FD4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9327-60DD-4186-BDF9-4C88D989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92E8-53C4-4C2C-B2D0-3A0D8E36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8DF4-62CA-4E3C-8885-856281AE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5385-A7F9-4877-852E-8C0F767A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E034-E1F1-4408-AA22-84D572F3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86FB-4BC1-4E4F-8843-EA3CEBF8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9AD8-15BD-493F-9DC3-B7919FF5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6E0-00BE-4234-AECE-C1189E96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99E6-339B-40A4-8206-576FBBDE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3FAA-D02C-451A-807A-DC4B84AB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95A9-1101-474D-A211-CEE7C619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069C-2D30-446E-8135-8C70518B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3963-96B0-4F09-9869-F2129908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C52-CF9E-408B-A016-1C094FDB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996-E710-43E2-AC8F-9030F4B0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FEA-FF81-4254-9533-262EAA7C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84C-2B6F-44B2-9C10-B3F06703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53E-F8F4-441E-971B-FA32DF17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160-CD07-4DEE-9528-C08DF262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8BA-DCA0-444E-B4EE-6BBD4805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hyperlink" Target="http://jimu-www.jimu.kyutech.ac.jp/gakunai/img_date/picture/logomark_E1.gif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6308280"/>
            <a:ext cx="381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EFEB-1C27-4369-ABF4-01B89EA1E95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912960" y="1066680"/>
            <a:ext cx="8231040" cy="381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6" name="Picture 8" descr="MPEGimage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11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912960" y="2057400"/>
            <a:ext cx="823104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ogo_s"/>
          <p:cNvPicPr/>
          <p:nvPr/>
        </p:nvPicPr>
        <p:blipFill>
          <a:blip r:embed="rId3"/>
          <a:stretch/>
        </p:blipFill>
        <p:spPr>
          <a:xfrm>
            <a:off x="7524720" y="530064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ogomark_E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5661000"/>
            <a:ext cx="1141560" cy="1023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41768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13592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2F47-5B5F-4CA9-8EF0-FF0AEEEA68F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7534-91E0-4057-A039-554B1FBD099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1360" y="850680"/>
            <a:ext cx="772128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and Import Peripheral</a:t>
            </a:r>
            <a:br>
              <a:rPr sz="3600"/>
            </a:b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For Microblaze</a:t>
            </a: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ver AXI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Sept /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aru Hi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520" y="14950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folder\pcores\test_v1_00_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図 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211800" cy="41911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37AA-CBD1-49F5-B3E7-73CDFE1B1C1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10"/>
          <p:cNvSpPr/>
          <p:nvPr/>
        </p:nvSpPr>
        <p:spPr>
          <a:xfrm>
            <a:off x="2895480" y="32767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MPD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\folder\pcores\test_v1_00_a\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F:\document\LSI_CONTEST\ペリフェラル\ペリフェラル作成15.png"/>
          <p:cNvPicPr/>
          <p:nvPr/>
        </p:nvPicPr>
        <p:blipFill>
          <a:blip r:embed="rId1"/>
          <a:stretch/>
        </p:blipFill>
        <p:spPr>
          <a:xfrm>
            <a:off x="1227240" y="2590920"/>
            <a:ext cx="6400800" cy="39560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8F7D-5C37-492E-B348-54E01963108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3048120" y="3754440"/>
            <a:ext cx="12952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09480" y="152352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input or output information within red fr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0" descr="F:\document\LSI_CONTEST\ペリフェラル\ペリフェラル作成16.png"/>
          <p:cNvPicPr/>
          <p:nvPr/>
        </p:nvPicPr>
        <p:blipFill>
          <a:blip r:embed="rId1"/>
          <a:stretch/>
        </p:blipFill>
        <p:spPr>
          <a:xfrm>
            <a:off x="385920" y="2070000"/>
            <a:ext cx="5027400" cy="4546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7618-E347-450D-990A-E39C891B157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685800" y="4267080"/>
            <a:ext cx="167652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右矢印 2"/>
          <p:cNvSpPr/>
          <p:nvPr/>
        </p:nvSpPr>
        <p:spPr>
          <a:xfrm>
            <a:off x="2506680" y="4202280"/>
            <a:ext cx="1150920" cy="304560"/>
          </a:xfrm>
          <a:prstGeom prst="rightArrow">
            <a:avLst>
              <a:gd name="adj1" fmla="val 50000"/>
              <a:gd name="adj2" fmla="val 5007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テキスト ボックス 5"/>
          <p:cNvSpPr/>
          <p:nvPr/>
        </p:nvSpPr>
        <p:spPr>
          <a:xfrm>
            <a:off x="3830760" y="4178160"/>
            <a:ext cx="522252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Signal Name= “”, DIR = I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O, VEC = [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Wid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cnt_num = "", DIR = O, VEC = [0:31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3" descr="F:\document\LSI_CONTEST\ペリフェラル\ペリフェラル作成14.png"/>
          <p:cNvPicPr/>
          <p:nvPr/>
        </p:nvPicPr>
        <p:blipFill>
          <a:blip r:embed="rId1"/>
          <a:stretch/>
        </p:blipFill>
        <p:spPr>
          <a:xfrm>
            <a:off x="1195560" y="1967040"/>
            <a:ext cx="3778200" cy="2896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F:\document\LSI_CONTEST\ペリフェラル\ペリフェラル作成17.png"/>
          <p:cNvPicPr/>
          <p:nvPr/>
        </p:nvPicPr>
        <p:blipFill>
          <a:blip r:embed="rId2"/>
          <a:stretch/>
        </p:blipFill>
        <p:spPr>
          <a:xfrm>
            <a:off x="2971800" y="2819520"/>
            <a:ext cx="4449600" cy="2533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8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ED8A-DFD0-4B5A-A12A-4275EA98578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2170080" y="297828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16" descr="F:\document\LSI_CONTEST\ペリフェラル\ペリフェラル作成18.png"/>
          <p:cNvPicPr/>
          <p:nvPr/>
        </p:nvPicPr>
        <p:blipFill>
          <a:blip r:embed="rId3"/>
          <a:stretch/>
        </p:blipFill>
        <p:spPr>
          <a:xfrm>
            <a:off x="4684680" y="3938760"/>
            <a:ext cx="3975120" cy="2277720"/>
          </a:xfrm>
          <a:prstGeom prst="rect">
            <a:avLst/>
          </a:prstGeom>
          <a:ln w="0">
            <a:noFill/>
          </a:ln>
        </p:spPr>
      </p:pic>
      <p:sp>
        <p:nvSpPr>
          <p:cNvPr id="185" name="Oval 10"/>
          <p:cNvSpPr/>
          <p:nvPr/>
        </p:nvSpPr>
        <p:spPr>
          <a:xfrm>
            <a:off x="5632560" y="4667400"/>
            <a:ext cx="838080" cy="40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4145040" y="373392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テキスト ボックス 1"/>
          <p:cNvSpPr/>
          <p:nvPr/>
        </p:nvSpPr>
        <p:spPr>
          <a:xfrm>
            <a:off x="662040" y="4205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テキスト ボックス 12"/>
          <p:cNvSpPr/>
          <p:nvPr/>
        </p:nvSpPr>
        <p:spPr>
          <a:xfrm>
            <a:off x="2438280" y="484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②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テキスト ボックス 13"/>
          <p:cNvSpPr/>
          <p:nvPr/>
        </p:nvSpPr>
        <p:spPr>
          <a:xfrm>
            <a:off x="4202280" y="574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252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VHD file(.vhd)in the following st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47240" y="15426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signal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e conte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9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A9C5-4523-4B26-BAAB-E14C564C0E5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13" descr="F:\document\LSI_CONTEST\ペリフェラル\ペリフェラル作成19.png"/>
          <p:cNvPicPr/>
          <p:nvPr/>
        </p:nvPicPr>
        <p:blipFill>
          <a:blip r:embed="rId1"/>
          <a:stretch/>
        </p:blipFill>
        <p:spPr>
          <a:xfrm>
            <a:off x="4952880" y="1981080"/>
            <a:ext cx="4023000" cy="3994200"/>
          </a:xfrm>
          <a:prstGeom prst="rect">
            <a:avLst/>
          </a:prstGeom>
          <a:ln w="0">
            <a:noFill/>
          </a:ln>
        </p:spPr>
      </p:pic>
      <p:sp>
        <p:nvSpPr>
          <p:cNvPr id="196" name="テキスト ボックス 7"/>
          <p:cNvSpPr/>
          <p:nvPr/>
        </p:nvSpPr>
        <p:spPr>
          <a:xfrm>
            <a:off x="76320" y="4114800"/>
            <a:ext cx="6370560" cy="92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 Name : in or out std_logic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:1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 Name : in or out std_logic_vector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Wid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:Multiple 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ex.)cnt_num : out std_logic_vector(0 to 31)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5611680" y="5479920"/>
            <a:ext cx="1670040" cy="231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右矢印 6"/>
          <p:cNvSpPr/>
          <p:nvPr/>
        </p:nvSpPr>
        <p:spPr>
          <a:xfrm rot="1498200">
            <a:off x="4698720" y="5221080"/>
            <a:ext cx="906480" cy="304560"/>
          </a:xfrm>
          <a:prstGeom prst="rightArrow">
            <a:avLst>
              <a:gd name="adj1" fmla="val 50000"/>
              <a:gd name="adj2" fmla="val 5007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1"/>
          <a:stretch/>
        </p:blipFill>
        <p:spPr>
          <a:xfrm>
            <a:off x="609480" y="2075040"/>
            <a:ext cx="4602240" cy="33289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457200"/>
            <a:ext cx="7994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02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E367-B4A4-48EB-9F76-6577C18B041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右矢印 6"/>
          <p:cNvSpPr/>
          <p:nvPr/>
        </p:nvSpPr>
        <p:spPr>
          <a:xfrm rot="10800000">
            <a:off x="3603240" y="4167360"/>
            <a:ext cx="1219320" cy="304560"/>
          </a:xfrm>
          <a:prstGeom prst="rightArrow">
            <a:avLst>
              <a:gd name="adj1" fmla="val 50000"/>
              <a:gd name="adj2" fmla="val 5004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テキスト ボックス 7"/>
          <p:cNvSpPr/>
          <p:nvPr/>
        </p:nvSpPr>
        <p:spPr>
          <a:xfrm>
            <a:off x="5145120" y="3840120"/>
            <a:ext cx="335268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 Name =&gt; Signal Name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ex.)  cnt_num =&gt; cnt_num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066680" y="4159080"/>
            <a:ext cx="1600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208" name="コンテンツ プレースホルダー 5" descr=""/>
          <p:cNvPicPr/>
          <p:nvPr/>
        </p:nvPicPr>
        <p:blipFill>
          <a:blip r:embed="rId1"/>
          <a:stretch/>
        </p:blipFill>
        <p:spPr>
          <a:xfrm>
            <a:off x="666720" y="1676520"/>
            <a:ext cx="7094520" cy="4171680"/>
          </a:xfrm>
          <a:prstGeom prst="rect">
            <a:avLst/>
          </a:prstGeom>
          <a:ln w="0">
            <a:noFill/>
          </a:ln>
        </p:spPr>
      </p:pic>
      <p:sp>
        <p:nvSpPr>
          <p:cNvPr id="20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874D-E568-4773-8FD6-92735A5FF1E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円/楕円 6"/>
          <p:cNvSpPr/>
          <p:nvPr/>
        </p:nvSpPr>
        <p:spPr>
          <a:xfrm>
            <a:off x="915840" y="4343400"/>
            <a:ext cx="24386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右矢印 6"/>
          <p:cNvSpPr/>
          <p:nvPr/>
        </p:nvSpPr>
        <p:spPr>
          <a:xfrm rot="10800000">
            <a:off x="3505320" y="4809600"/>
            <a:ext cx="121896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テキスト ボックス 7"/>
          <p:cNvSpPr/>
          <p:nvPr/>
        </p:nvSpPr>
        <p:spPr>
          <a:xfrm>
            <a:off x="4952880" y="4792680"/>
            <a:ext cx="2629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uit Descrip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82760" y="1599840"/>
            <a:ext cx="8178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図 1" descr=""/>
          <p:cNvPicPr/>
          <p:nvPr/>
        </p:nvPicPr>
        <p:blipFill>
          <a:blip r:embed="rId1"/>
          <a:stretch/>
        </p:blipFill>
        <p:spPr>
          <a:xfrm>
            <a:off x="657360" y="2263680"/>
            <a:ext cx="7327800" cy="4038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6D73-D04A-49F3-A297-9E05F516786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1447920" y="26859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1512720" y="2309760"/>
            <a:ext cx="619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5836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mport existing peripheral and 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2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DA4E-72C6-4DC4-84BC-1AB5CAA20EE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76320" y="2743200"/>
            <a:ext cx="4383000" cy="36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26" name="Oval 10"/>
          <p:cNvSpPr/>
          <p:nvPr/>
        </p:nvSpPr>
        <p:spPr>
          <a:xfrm>
            <a:off x="7924680" y="60958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3352680" y="61070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383000" cy="36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29" name="Oval 10"/>
          <p:cNvSpPr/>
          <p:nvPr/>
        </p:nvSpPr>
        <p:spPr>
          <a:xfrm>
            <a:off x="6095880" y="3848040"/>
            <a:ext cx="1295640" cy="114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図 2" descr=""/>
          <p:cNvPicPr/>
          <p:nvPr/>
        </p:nvPicPr>
        <p:blipFill>
          <a:blip r:embed="rId1"/>
          <a:stretch/>
        </p:blipFill>
        <p:spPr>
          <a:xfrm>
            <a:off x="4800600" y="2778120"/>
            <a:ext cx="4086360" cy="35384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32" name="フッター プレースホルダー 3"/>
          <p:cNvSpPr/>
          <p:nvPr/>
        </p:nvSpPr>
        <p:spPr>
          <a:xfrm>
            <a:off x="2301840" y="633564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6DF7-7FD1-452B-B68E-8EBA40DA1F9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52280" y="2627280"/>
            <a:ext cx="4418280" cy="3840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6524640" y="914400"/>
            <a:ext cx="2610000" cy="1087560"/>
          </a:xfrm>
          <a:prstGeom prst="rect">
            <a:avLst/>
          </a:prstGeom>
          <a:ln w="0">
            <a:noFill/>
          </a:ln>
        </p:spPr>
      </p:pic>
      <p:sp>
        <p:nvSpPr>
          <p:cNvPr id="236" name="下矢印 2"/>
          <p:cNvSpPr/>
          <p:nvPr/>
        </p:nvSpPr>
        <p:spPr>
          <a:xfrm rot="10800000">
            <a:off x="7619760" y="2099880"/>
            <a:ext cx="533160" cy="700200"/>
          </a:xfrm>
          <a:prstGeom prst="downArrow">
            <a:avLst>
              <a:gd name="adj1" fmla="val 50000"/>
              <a:gd name="adj2" fmla="val 50057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3448080" y="62085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5181480" y="35672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7296120" y="1676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7886880" y="59799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160" y="12790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Left figure, Select the name which you mak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peripheral, and Click the Next but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right figure is displayed on the screen, and Click the yes but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1360" y="1405080"/>
            <a:ext cx="772128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The Main Flow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pheral Tem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 file(.MPD, .VHD, .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フッター プレースホルダー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スライド番号プレースホルダー 4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1C2E-2E60-4083-A80B-6133589A07A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A1C0-969F-4840-B07A-C30A5793791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72120" cy="449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47" name="Oval 10"/>
          <p:cNvSpPr/>
          <p:nvPr/>
        </p:nvSpPr>
        <p:spPr>
          <a:xfrm>
            <a:off x="5867280" y="611496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図 1" descr=""/>
          <p:cNvPicPr/>
          <p:nvPr/>
        </p:nvPicPr>
        <p:blipFill>
          <a:blip r:embed="rId1"/>
          <a:stretch/>
        </p:blipFill>
        <p:spPr>
          <a:xfrm>
            <a:off x="4572000" y="2724120"/>
            <a:ext cx="4183200" cy="37911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guage to implement your periphera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 Use existing Periphral Analysis Order file (*pa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\your working folder/pcores/Name_v1_00_a/data/PAO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12A7-DDAE-491B-8677-20CA82ACA44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112680" y="2720880"/>
            <a:ext cx="4295880" cy="3733920"/>
          </a:xfrm>
          <a:prstGeom prst="rect">
            <a:avLst/>
          </a:prstGeom>
          <a:ln w="0">
            <a:noFill/>
          </a:ln>
        </p:spPr>
      </p:pic>
      <p:sp>
        <p:nvSpPr>
          <p:cNvPr id="254" name="Oval 10"/>
          <p:cNvSpPr/>
          <p:nvPr/>
        </p:nvSpPr>
        <p:spPr>
          <a:xfrm>
            <a:off x="1639800" y="3200400"/>
            <a:ext cx="620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177840" y="4952880"/>
            <a:ext cx="18478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3606840" y="510696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下矢印 10"/>
          <p:cNvSpPr/>
          <p:nvPr/>
        </p:nvSpPr>
        <p:spPr>
          <a:xfrm rot="16200000">
            <a:off x="4552920" y="4849560"/>
            <a:ext cx="342720" cy="777960"/>
          </a:xfrm>
          <a:prstGeom prst="down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7601040" y="58863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6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3156-78DB-45B9-83C4-E3F19735F04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2300400" y="2819520"/>
            <a:ext cx="4295520" cy="373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63" name="Oval 10"/>
          <p:cNvSpPr/>
          <p:nvPr/>
        </p:nvSpPr>
        <p:spPr>
          <a:xfrm>
            <a:off x="5562720" y="624348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he Next button, and the grammar of renewed file will be che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failed, errors are displayed on the screen. It points out where you make errors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Selecting Slave of AX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, 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図 2" descr=""/>
          <p:cNvPicPr/>
          <p:nvPr/>
        </p:nvPicPr>
        <p:blipFill>
          <a:blip r:embed="rId1"/>
          <a:stretch/>
        </p:blipFill>
        <p:spPr>
          <a:xfrm>
            <a:off x="4648320" y="2706840"/>
            <a:ext cx="3987720" cy="3757320"/>
          </a:xfrm>
          <a:prstGeom prst="rect">
            <a:avLst/>
          </a:prstGeom>
          <a:ln w="0">
            <a:noFill/>
          </a:ln>
        </p:spPr>
      </p:pic>
      <p:pic>
        <p:nvPicPr>
          <p:cNvPr id="267" name="図 1" descr=""/>
          <p:cNvPicPr/>
          <p:nvPr/>
        </p:nvPicPr>
        <p:blipFill>
          <a:blip r:embed="rId2"/>
          <a:stretch/>
        </p:blipFill>
        <p:spPr>
          <a:xfrm>
            <a:off x="477720" y="2654280"/>
            <a:ext cx="4024440" cy="37879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6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A23D-1415-4DD3-8EF4-F996E679897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7620120" y="6167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609480" y="3543480"/>
            <a:ext cx="838440" cy="495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34680" y="153684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Selecting C_HIGHADDR of Parameter determine high adress, Click the Next button in Lef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図 2" descr=""/>
          <p:cNvPicPr/>
          <p:nvPr/>
        </p:nvPicPr>
        <p:blipFill>
          <a:blip r:embed="rId1"/>
          <a:stretch/>
        </p:blipFill>
        <p:spPr>
          <a:xfrm>
            <a:off x="4572000" y="2532240"/>
            <a:ext cx="3897360" cy="3657600"/>
          </a:xfrm>
          <a:prstGeom prst="rect">
            <a:avLst/>
          </a:prstGeom>
          <a:ln w="0">
            <a:noFill/>
          </a:ln>
        </p:spPr>
      </p:pic>
      <p:pic>
        <p:nvPicPr>
          <p:cNvPr id="275" name="図 1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809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7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7A22-8039-468F-AD84-87FF62F6B7C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7162920" y="5938920"/>
            <a:ext cx="12189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2133720" y="3622680"/>
            <a:ext cx="21333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図 1" descr=""/>
          <p:cNvPicPr/>
          <p:nvPr/>
        </p:nvPicPr>
        <p:blipFill>
          <a:blip r:embed="rId1"/>
          <a:stretch/>
        </p:blipFill>
        <p:spPr>
          <a:xfrm>
            <a:off x="1886040" y="2031840"/>
            <a:ext cx="4228920" cy="40053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052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4BFF-44DD-4EB2-ACC4-B4FA140A3CD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4987800" y="57610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Finish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131E-1C88-4930-905D-8A697F2B612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図 1" descr=""/>
          <p:cNvPicPr/>
          <p:nvPr/>
        </p:nvPicPr>
        <p:blipFill>
          <a:blip r:embed="rId1"/>
          <a:stretch/>
        </p:blipFill>
        <p:spPr>
          <a:xfrm>
            <a:off x="2181240" y="2057400"/>
            <a:ext cx="4591080" cy="398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図 1" descr=""/>
          <p:cNvPicPr/>
          <p:nvPr/>
        </p:nvPicPr>
        <p:blipFill>
          <a:blip r:embed="rId1"/>
          <a:stretch/>
        </p:blipFill>
        <p:spPr>
          <a:xfrm>
            <a:off x="1954080" y="2286000"/>
            <a:ext cx="4230720" cy="35812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3BE8-7648-4C8B-BA54-CA73E0F96DC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2120760" y="464832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IP is displayed on the sc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FF25-B440-475A-8DAA-EE1E053622A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正方形/長方形 5"/>
          <p:cNvSpPr/>
          <p:nvPr/>
        </p:nvSpPr>
        <p:spPr>
          <a:xfrm>
            <a:off x="711360" y="1882800"/>
            <a:ext cx="533376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正方形/長方形 6"/>
          <p:cNvSpPr/>
          <p:nvPr/>
        </p:nvSpPr>
        <p:spPr>
          <a:xfrm>
            <a:off x="762120" y="188280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iptobus_DATA = "", DIR = I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bustoip_DATA = "", DIR = O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テキスト ボックス 11"/>
          <p:cNvSpPr/>
          <p:nvPr/>
        </p:nvSpPr>
        <p:spPr>
          <a:xfrm>
            <a:off x="715320" y="150984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MP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正方形/長方形 8"/>
          <p:cNvSpPr/>
          <p:nvPr/>
        </p:nvSpPr>
        <p:spPr>
          <a:xfrm>
            <a:off x="711360" y="4962600"/>
            <a:ext cx="247464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テキスト ボックス 12"/>
          <p:cNvSpPr/>
          <p:nvPr/>
        </p:nvSpPr>
        <p:spPr>
          <a:xfrm>
            <a:off x="716400" y="31449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test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正方形/長方形 10"/>
          <p:cNvSpPr/>
          <p:nvPr/>
        </p:nvSpPr>
        <p:spPr>
          <a:xfrm>
            <a:off x="711360" y="4987800"/>
            <a:ext cx="3213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=&gt; iptobus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=&gt; Rd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=&gt; Wr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=&gt; bustoip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=&gt; Rd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=&gt; Wr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正方形/長方形 12"/>
          <p:cNvSpPr/>
          <p:nvPr/>
        </p:nvSpPr>
        <p:spPr>
          <a:xfrm>
            <a:off x="711360" y="3514680"/>
            <a:ext cx="6908760" cy="12859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正方形/長方形 13"/>
          <p:cNvSpPr/>
          <p:nvPr/>
        </p:nvSpPr>
        <p:spPr>
          <a:xfrm>
            <a:off x="762120" y="351468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1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404C-4289-4EA8-83A8-6F3B1A67652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正方形/長方形 5"/>
          <p:cNvSpPr/>
          <p:nvPr/>
        </p:nvSpPr>
        <p:spPr>
          <a:xfrm>
            <a:off x="685800" y="2060640"/>
            <a:ext cx="5322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正方形/長方形 6"/>
          <p:cNvSpPr/>
          <p:nvPr/>
        </p:nvSpPr>
        <p:spPr>
          <a:xfrm>
            <a:off x="674640" y="2057400"/>
            <a:ext cx="5334120" cy="13716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テキスト ボックス 12"/>
          <p:cNvSpPr/>
          <p:nvPr/>
        </p:nvSpPr>
        <p:spPr>
          <a:xfrm>
            <a:off x="558720" y="16876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user_logic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正方形/長方形 8"/>
          <p:cNvSpPr/>
          <p:nvPr/>
        </p:nvSpPr>
        <p:spPr>
          <a:xfrm>
            <a:off x="849240" y="3772080"/>
            <a:ext cx="457200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Data  &lt;= iptobus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WrAck &lt;= Wr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RdAck &lt;= Rd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Error &lt;= '0'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&lt;= Bus2IP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&lt;= Bus2IP_Rd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&lt;= Bus2IP_Wr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正方形/長方形 9"/>
          <p:cNvSpPr/>
          <p:nvPr/>
        </p:nvSpPr>
        <p:spPr>
          <a:xfrm>
            <a:off x="838080" y="3733920"/>
            <a:ext cx="5562720" cy="16873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テキスト ボックス 12"/>
          <p:cNvSpPr/>
          <p:nvPr/>
        </p:nvSpPr>
        <p:spPr>
          <a:xfrm>
            <a:off x="5241240" y="3803760"/>
            <a:ext cx="2318760" cy="69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_logic.vhd 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Circuit Descrip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16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104" name="図 1" descr=""/>
          <p:cNvPicPr/>
          <p:nvPr/>
        </p:nvPicPr>
        <p:blipFill>
          <a:blip r:embed="rId1"/>
          <a:stretch/>
        </p:blipFill>
        <p:spPr>
          <a:xfrm>
            <a:off x="1219320" y="2155680"/>
            <a:ext cx="6775200" cy="3733920"/>
          </a:xfrm>
          <a:prstGeom prst="rect">
            <a:avLst/>
          </a:prstGeom>
          <a:ln w="0">
            <a:noFill/>
          </a:ln>
        </p:spPr>
      </p:pic>
      <p:sp>
        <p:nvSpPr>
          <p:cNvPr id="10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2C97-E9AE-44C2-8D1B-5F3B7BBE4EF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905120" y="25527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1905120" y="2263680"/>
            <a:ext cx="6188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563D-FE04-4964-93F5-9E88F236CE6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340520" cy="377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4" name="Oval 10"/>
          <p:cNvSpPr/>
          <p:nvPr/>
        </p:nvSpPr>
        <p:spPr>
          <a:xfrm>
            <a:off x="3352680" y="617544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72000" y="2639880"/>
            <a:ext cx="4400640" cy="3826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6" name="Oval 10"/>
          <p:cNvSpPr/>
          <p:nvPr/>
        </p:nvSpPr>
        <p:spPr>
          <a:xfrm>
            <a:off x="7848720" y="6159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6086520" y="358128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2" descr="F:\document\LSI_CONTEST\ペリフェラル\ペリフェラル作成5.png"/>
          <p:cNvPicPr/>
          <p:nvPr/>
        </p:nvPicPr>
        <p:blipFill>
          <a:blip r:embed="rId1"/>
          <a:stretch/>
        </p:blipFill>
        <p:spPr>
          <a:xfrm>
            <a:off x="4633920" y="2743200"/>
            <a:ext cx="4457520" cy="3683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an XPS project and Click the Next button in lef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 the name of the peripheral and Click the Next button in Righ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C459-8C0D-404D-8CF2-200ED5337F7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71280" y="2743200"/>
            <a:ext cx="4470480" cy="36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24" name="Oval 10"/>
          <p:cNvSpPr/>
          <p:nvPr/>
        </p:nvSpPr>
        <p:spPr>
          <a:xfrm>
            <a:off x="128520" y="402264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7975440" y="613728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4800600" y="3429000"/>
            <a:ext cx="9144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429000" y="608328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4" descr="F:\document\LSI_CONTEST\ペリフェラル\ペリフェラル作成6.png"/>
          <p:cNvPicPr/>
          <p:nvPr/>
        </p:nvPicPr>
        <p:blipFill>
          <a:blip r:embed="rId1"/>
          <a:stretch/>
        </p:blipFill>
        <p:spPr>
          <a:xfrm>
            <a:off x="249120" y="2714760"/>
            <a:ext cx="4214880" cy="3679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3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C97A-0829-44E1-867B-49F1758063F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380880" y="3263760"/>
            <a:ext cx="12193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3352680" y="605628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図 1" descr=""/>
          <p:cNvPicPr/>
          <p:nvPr/>
        </p:nvPicPr>
        <p:blipFill>
          <a:blip r:embed="rId2"/>
          <a:stretch/>
        </p:blipFill>
        <p:spPr>
          <a:xfrm>
            <a:off x="4562640" y="2689200"/>
            <a:ext cx="4259160" cy="3695760"/>
          </a:xfrm>
          <a:prstGeom prst="rect">
            <a:avLst/>
          </a:prstGeom>
          <a:ln w="0">
            <a:noFill/>
          </a:ln>
        </p:spPr>
      </p:pic>
      <p:sp>
        <p:nvSpPr>
          <p:cNvPr id="135" name="Oval 10"/>
          <p:cNvSpPr/>
          <p:nvPr/>
        </p:nvSpPr>
        <p:spPr>
          <a:xfrm>
            <a:off x="6600960" y="4863960"/>
            <a:ext cx="10666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7696080" y="6054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1413000"/>
            <a:ext cx="85341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XI-4Lite and 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nclude data phase timer and 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33160" y="1413000"/>
            <a:ext cx="83818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1" descr="F:\document\LSI_CONTEST\ペリフェラル\ペリフェラル作成9.png"/>
          <p:cNvPicPr/>
          <p:nvPr/>
        </p:nvPicPr>
        <p:blipFill>
          <a:blip r:embed="rId1"/>
          <a:stretch/>
        </p:blipFill>
        <p:spPr>
          <a:xfrm>
            <a:off x="2590920" y="2514600"/>
            <a:ext cx="4381560" cy="3787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2045-F8AF-4F5E-BBC7-EDEF0216FE1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867280" y="594360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1" descr="F:\document\LSI_CONTEST\ペリフェラル\ペリフェラル作成10.png"/>
          <p:cNvPicPr/>
          <p:nvPr/>
        </p:nvPicPr>
        <p:blipFill>
          <a:blip r:embed="rId1"/>
          <a:stretch/>
        </p:blipFill>
        <p:spPr>
          <a:xfrm>
            <a:off x="228600" y="3124080"/>
            <a:ext cx="4400640" cy="3308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ECC4-3287-4DBA-AAD8-2740F87D444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4416480" cy="3308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49" name="Oval 10"/>
          <p:cNvSpPr/>
          <p:nvPr/>
        </p:nvSpPr>
        <p:spPr>
          <a:xfrm>
            <a:off x="3505320" y="6081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7924680" y="608472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Oval 10"/>
          <p:cNvSpPr/>
          <p:nvPr/>
        </p:nvSpPr>
        <p:spPr>
          <a:xfrm>
            <a:off x="6019920" y="4076640"/>
            <a:ext cx="2097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write a program using Verilog, Check the top CheckBo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Finish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E2E0-60CD-41BA-BB89-8943C81B1CA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F:\document\LSI_CONTEST\ペリフェラル\ペリフェラル作成12.png"/>
          <p:cNvPicPr/>
          <p:nvPr/>
        </p:nvPicPr>
        <p:blipFill>
          <a:blip r:embed="rId1"/>
          <a:stretch/>
        </p:blipFill>
        <p:spPr>
          <a:xfrm>
            <a:off x="2311560" y="1994040"/>
            <a:ext cx="4825800" cy="4190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iokawa</dc:creator>
  <dc:description/>
  <dc:language>en-US</dc:language>
  <cp:lastModifiedBy>whirata</cp:lastModifiedBy>
  <cp:lastPrinted>2012-09-28T04:19:07Z</cp:lastPrinted>
  <dcterms:modified xsi:type="dcterms:W3CDTF">2012-11-20T08:43:31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