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7F2BA-EA2F-49E7-90EF-5EC82719447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4984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583BD-693E-4534-957D-5E723598096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スライド番号プレースホルダー 3"/>
          <p:cNvSpPr/>
          <p:nvPr/>
        </p:nvSpPr>
        <p:spPr>
          <a:xfrm>
            <a:off x="384984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C66B3-750F-46D6-8760-69B0A5B3331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スライド番号プレースホルダー 3"/>
          <p:cNvSpPr/>
          <p:nvPr/>
        </p:nvSpPr>
        <p:spPr>
          <a:xfrm>
            <a:off x="384984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5297E-578D-4557-9784-9CFF58895A2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スライド番号プレースホルダー 3"/>
          <p:cNvSpPr/>
          <p:nvPr/>
        </p:nvSpPr>
        <p:spPr>
          <a:xfrm>
            <a:off x="384984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B8FB6-7B22-49AB-AC03-32343A1E2DF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スライド番号プレースホルダー 3"/>
          <p:cNvSpPr/>
          <p:nvPr/>
        </p:nvSpPr>
        <p:spPr>
          <a:xfrm>
            <a:off x="384984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4840C-16C9-4556-9E2A-A5D696FA89E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スライド番号プレースホルダー 3"/>
          <p:cNvSpPr/>
          <p:nvPr/>
        </p:nvSpPr>
        <p:spPr>
          <a:xfrm>
            <a:off x="384984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880D8-2F72-4C90-AD62-E5FD4BFEDD2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スライド番号プレースホルダー 3"/>
          <p:cNvSpPr/>
          <p:nvPr/>
        </p:nvSpPr>
        <p:spPr>
          <a:xfrm>
            <a:off x="384984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5C859-D128-4A9A-9326-E7568A7D32C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スライド番号プレースホルダー 3"/>
          <p:cNvSpPr/>
          <p:nvPr/>
        </p:nvSpPr>
        <p:spPr>
          <a:xfrm>
            <a:off x="384984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2BAAC-54F3-4F5F-8529-449CD6D4A1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C6C2-3925-45D6-A7E3-8DEAEB30C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160" y="35920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C222-7514-4190-8088-8BE511D05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392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160" y="35920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3920" y="35920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B3F8-A62E-4AD0-938D-EF349721F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8680" y="141300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4200" y="141300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160" y="35920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8680" y="35920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4200" y="35920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5E1C-55D0-4E01-AA25-FC45757A5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CE142-FB85-43D2-9FD5-80E57716C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F542C-513F-497F-8E5C-2DA06B93D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64A9E-B69F-4D1A-9ECF-FA90668FF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23920" y="141300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34967-2EE6-45FD-BB2B-FBD1D9D63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D5382-6D67-4D51-BF05-CB6E537B0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9480" y="410760"/>
            <a:ext cx="799488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ABB76-BED6-4A2A-AA56-B7583D055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23920" y="141300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3160" y="35920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DD81B-20AC-4660-A0DD-6DA415BD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AC99-7A91-4DFA-9C7C-ADA0FE9AA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2392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23920" y="35920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55E6D-5137-4C31-8279-E178277A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2392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160" y="35920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1756B-E4A0-4853-97C9-8B0F58EC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3160" y="35920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386D7-EC67-407B-B2AA-F3D24BF0E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2392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35920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23920" y="35920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1B9EA-C28B-4389-A592-1A46D7811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98680" y="141300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64200" y="141300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3160" y="35920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98680" y="35920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64200" y="35920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0362A-AC8E-492F-8645-E582DE62A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6229-A537-4081-AF85-1132A0DE5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3920" y="141300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7706-BFA8-434C-B0DB-5177F20F4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0B75-63AC-4463-A94F-DA2694592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480" y="410760"/>
            <a:ext cx="799488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C4CB-916D-4CD8-94CC-FCAFF2D52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3920" y="141300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160" y="35920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3F75-E5ED-4AC3-B249-454D6F82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392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3920" y="35920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067A-E56D-435A-8B32-93ECF3EE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392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160" y="35920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5C92-7E75-4675-94D4-35F7DD932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hyperlink" Target="http://jimu-www.jimu.kyutech.ac.jp/gakunai/img_date/picture/logomark_E1.gif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7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99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99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-360" y="6308280"/>
            <a:ext cx="3816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71709-9CD5-4DFD-AA3A-389B6EDF45A4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2"/>
          <a:stretch/>
        </p:blipFill>
        <p:spPr>
          <a:xfrm>
            <a:off x="912960" y="1066680"/>
            <a:ext cx="8231040" cy="3812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pic>
        <p:nvPicPr>
          <p:cNvPr id="6" name="Picture 8" descr="MPEGimage"/>
          <p:cNvPicPr/>
          <p:nvPr/>
        </p:nvPicPr>
        <p:blipFill>
          <a:blip r:embed="rId3"/>
          <a:stretch/>
        </p:blipFill>
        <p:spPr>
          <a:xfrm>
            <a:off x="7810560" y="0"/>
            <a:ext cx="1333440" cy="1185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"/>
          <p:cNvPicPr/>
          <p:nvPr/>
        </p:nvPicPr>
        <p:blipFill>
          <a:blip r:embed="rId2"/>
          <a:stretch/>
        </p:blipFill>
        <p:spPr>
          <a:xfrm>
            <a:off x="912960" y="2057400"/>
            <a:ext cx="8231040" cy="380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logo_s"/>
          <p:cNvPicPr/>
          <p:nvPr/>
        </p:nvPicPr>
        <p:blipFill>
          <a:blip r:embed="rId3"/>
          <a:stretch/>
        </p:blipFill>
        <p:spPr>
          <a:xfrm>
            <a:off x="7524720" y="5300640"/>
            <a:ext cx="1428840" cy="1362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logomark_E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79280" y="5661000"/>
            <a:ext cx="1141560" cy="1023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7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99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99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141768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13592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8BA51-251D-40C4-9D57-6ABA889E27A8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713592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ECAB5-5409-4AD3-A785-73069A502902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11360" y="850680"/>
            <a:ext cx="7721280" cy="119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reate and Import Peripheral</a:t>
            </a:r>
            <a:br>
              <a:rPr sz="3600"/>
            </a:b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For Microblaze</a:t>
            </a:r>
            <a:r>
              <a:rPr b="0" lang="ja-JP" sz="3600" spc="-1" strike="noStrike">
                <a:solidFill>
                  <a:srgbClr val="6c3a3a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ver AXI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35736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/ Sept / 20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taru Hir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80520" y="14950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\folder\pcores\test_v1_00_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図 1" descr=""/>
          <p:cNvPicPr/>
          <p:nvPr/>
        </p:nvPicPr>
        <p:blipFill>
          <a:blip r:embed="rId1"/>
          <a:stretch/>
        </p:blipFill>
        <p:spPr>
          <a:xfrm>
            <a:off x="1219320" y="2209680"/>
            <a:ext cx="6211800" cy="41911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Edit file (.MPD)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61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28436-1468-402C-B2B0-6620E2D41585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Oval 10"/>
          <p:cNvSpPr/>
          <p:nvPr/>
        </p:nvSpPr>
        <p:spPr>
          <a:xfrm>
            <a:off x="2895480" y="3276720"/>
            <a:ext cx="68580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MPD fi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SzPct val="7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\folder\pcores\test_v1_00_a\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8" descr="F:\document\LSI_CONTEST\ペリフェラル\ペリフェラル作成15.png"/>
          <p:cNvPicPr/>
          <p:nvPr/>
        </p:nvPicPr>
        <p:blipFill>
          <a:blip r:embed="rId1"/>
          <a:stretch/>
        </p:blipFill>
        <p:spPr>
          <a:xfrm>
            <a:off x="1227240" y="2590920"/>
            <a:ext cx="6400800" cy="395604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Edit file (.MPD)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67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906A6-2F9B-416F-B24E-78CE4F15FE8B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Oval 10"/>
          <p:cNvSpPr/>
          <p:nvPr/>
        </p:nvSpPr>
        <p:spPr>
          <a:xfrm>
            <a:off x="3048120" y="3754440"/>
            <a:ext cx="129528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609480" y="1523520"/>
            <a:ext cx="830592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er input or output information within red fra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10" descr="F:\document\LSI_CONTEST\ペリフェラル\ペリフェラル作成16.png"/>
          <p:cNvPicPr/>
          <p:nvPr/>
        </p:nvPicPr>
        <p:blipFill>
          <a:blip r:embed="rId1"/>
          <a:stretch/>
        </p:blipFill>
        <p:spPr>
          <a:xfrm>
            <a:off x="385920" y="2070000"/>
            <a:ext cx="5027400" cy="45468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Edit file (.MPD)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73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F91B9-C082-4662-A6D4-2E619FC4E371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685800" y="4267080"/>
            <a:ext cx="1676520" cy="152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右矢印 2"/>
          <p:cNvSpPr/>
          <p:nvPr/>
        </p:nvSpPr>
        <p:spPr>
          <a:xfrm>
            <a:off x="2506680" y="4202280"/>
            <a:ext cx="1150920" cy="304560"/>
          </a:xfrm>
          <a:prstGeom prst="rightArrow">
            <a:avLst>
              <a:gd name="adj1" fmla="val 50000"/>
              <a:gd name="adj2" fmla="val 50071"/>
            </a:avLst>
          </a:prstGeom>
          <a:gradFill rotWithShape="0">
            <a:gsLst>
              <a:gs pos="0">
                <a:srgbClr val="99ffcc"/>
              </a:gs>
              <a:gs pos="100000">
                <a:srgbClr val="00ff00"/>
              </a:gs>
            </a:gsLst>
            <a:lin ang="5400000"/>
          </a:gradFill>
          <a:ln w="28440">
            <a:solidFill>
              <a:srgbClr val="000000"/>
            </a:solidFill>
            <a:round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テキスト ボックス 5"/>
          <p:cNvSpPr/>
          <p:nvPr/>
        </p:nvSpPr>
        <p:spPr>
          <a:xfrm>
            <a:off x="3830760" y="4178160"/>
            <a:ext cx="5222520" cy="63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 Signal Name= “”, DIR = I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r O, VEC = [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 Wid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x.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 cnt_num = "", DIR = O, VEC = [0:31]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13" descr="F:\document\LSI_CONTEST\ペリフェラル\ペリフェラル作成14.png"/>
          <p:cNvPicPr/>
          <p:nvPr/>
        </p:nvPicPr>
        <p:blipFill>
          <a:blip r:embed="rId1"/>
          <a:stretch/>
        </p:blipFill>
        <p:spPr>
          <a:xfrm>
            <a:off x="1195560" y="1967040"/>
            <a:ext cx="3778200" cy="28969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5" descr="F:\document\LSI_CONTEST\ペリフェラル\ペリフェラル作成17.png"/>
          <p:cNvPicPr/>
          <p:nvPr/>
        </p:nvPicPr>
        <p:blipFill>
          <a:blip r:embed="rId2"/>
          <a:stretch/>
        </p:blipFill>
        <p:spPr>
          <a:xfrm>
            <a:off x="2971800" y="2819520"/>
            <a:ext cx="4449600" cy="25336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Edit file (.VHD)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81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5AE72-33BA-4FFB-835F-5974FFC4003D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Oval 10"/>
          <p:cNvSpPr/>
          <p:nvPr/>
        </p:nvSpPr>
        <p:spPr>
          <a:xfrm>
            <a:off x="2170080" y="2978280"/>
            <a:ext cx="647640" cy="152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4" name="Picture 16" descr="F:\document\LSI_CONTEST\ペリフェラル\ペリフェラル作成18.png"/>
          <p:cNvPicPr/>
          <p:nvPr/>
        </p:nvPicPr>
        <p:blipFill>
          <a:blip r:embed="rId3"/>
          <a:stretch/>
        </p:blipFill>
        <p:spPr>
          <a:xfrm>
            <a:off x="4684680" y="3938760"/>
            <a:ext cx="3975120" cy="2277720"/>
          </a:xfrm>
          <a:prstGeom prst="rect">
            <a:avLst/>
          </a:prstGeom>
          <a:ln w="0">
            <a:noFill/>
          </a:ln>
        </p:spPr>
      </p:pic>
      <p:sp>
        <p:nvSpPr>
          <p:cNvPr id="185" name="Oval 10"/>
          <p:cNvSpPr/>
          <p:nvPr/>
        </p:nvSpPr>
        <p:spPr>
          <a:xfrm>
            <a:off x="5632560" y="4667400"/>
            <a:ext cx="838080" cy="4093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Oval 10"/>
          <p:cNvSpPr/>
          <p:nvPr/>
        </p:nvSpPr>
        <p:spPr>
          <a:xfrm>
            <a:off x="4145040" y="3733920"/>
            <a:ext cx="647640" cy="152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テキスト ボックス 1"/>
          <p:cNvSpPr/>
          <p:nvPr/>
        </p:nvSpPr>
        <p:spPr>
          <a:xfrm>
            <a:off x="662040" y="420516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テキスト ボックス 12"/>
          <p:cNvSpPr/>
          <p:nvPr/>
        </p:nvSpPr>
        <p:spPr>
          <a:xfrm>
            <a:off x="2438280" y="4846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②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テキスト ボックス 13"/>
          <p:cNvSpPr/>
          <p:nvPr/>
        </p:nvSpPr>
        <p:spPr>
          <a:xfrm>
            <a:off x="4202280" y="5746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③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25240" y="14479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VHD file(.vhd)in the following ste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147240" y="154260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e signal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ame conte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Edit file (.VHD)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93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7D697-7637-4EE9-ADA0-9235F97E6B72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5" name="Picture 13" descr="F:\document\LSI_CONTEST\ペリフェラル\ペリフェラル作成19.png"/>
          <p:cNvPicPr/>
          <p:nvPr/>
        </p:nvPicPr>
        <p:blipFill>
          <a:blip r:embed="rId1"/>
          <a:stretch/>
        </p:blipFill>
        <p:spPr>
          <a:xfrm>
            <a:off x="4952880" y="1981080"/>
            <a:ext cx="4023000" cy="3994200"/>
          </a:xfrm>
          <a:prstGeom prst="rect">
            <a:avLst/>
          </a:prstGeom>
          <a:ln w="0">
            <a:noFill/>
          </a:ln>
        </p:spPr>
      </p:pic>
      <p:sp>
        <p:nvSpPr>
          <p:cNvPr id="196" name="テキスト ボックス 7"/>
          <p:cNvSpPr/>
          <p:nvPr/>
        </p:nvSpPr>
        <p:spPr>
          <a:xfrm>
            <a:off x="76320" y="4114800"/>
            <a:ext cx="6370560" cy="92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gnal Name : in or out std_logic;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:1bi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gnal Name : in or out std_logic_vector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 Wid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;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:Multiple bi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ex.)cnt_num : out std_logic_vector(0 to 31);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Oval 10"/>
          <p:cNvSpPr/>
          <p:nvPr/>
        </p:nvSpPr>
        <p:spPr>
          <a:xfrm>
            <a:off x="5611680" y="5479920"/>
            <a:ext cx="1670040" cy="2318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右矢印 6"/>
          <p:cNvSpPr/>
          <p:nvPr/>
        </p:nvSpPr>
        <p:spPr>
          <a:xfrm rot="1498200">
            <a:off x="4698720" y="5221080"/>
            <a:ext cx="906480" cy="304560"/>
          </a:xfrm>
          <a:prstGeom prst="rightArrow">
            <a:avLst>
              <a:gd name="adj1" fmla="val 50000"/>
              <a:gd name="adj2" fmla="val 50074"/>
            </a:avLst>
          </a:prstGeom>
          <a:gradFill rotWithShape="0">
            <a:gsLst>
              <a:gs pos="0">
                <a:srgbClr val="99ffcc"/>
              </a:gs>
              <a:gs pos="100000">
                <a:srgbClr val="00ff00"/>
              </a:gs>
            </a:gsLst>
            <a:lin ang="5400000"/>
          </a:gradFill>
          <a:ln w="28440">
            <a:solidFill>
              <a:srgbClr val="000000"/>
            </a:solidFill>
            <a:round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Picture 10" descr=""/>
          <p:cNvPicPr/>
          <p:nvPr/>
        </p:nvPicPr>
        <p:blipFill>
          <a:blip r:embed="rId1"/>
          <a:stretch/>
        </p:blipFill>
        <p:spPr>
          <a:xfrm>
            <a:off x="609480" y="2075040"/>
            <a:ext cx="4602240" cy="33289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2920" y="457200"/>
            <a:ext cx="7994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Edit file (.VHD)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02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898DC-EBD8-4297-923E-7F17C240FBA7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右矢印 6"/>
          <p:cNvSpPr/>
          <p:nvPr/>
        </p:nvSpPr>
        <p:spPr>
          <a:xfrm rot="10800000">
            <a:off x="3603240" y="4167360"/>
            <a:ext cx="1219320" cy="304560"/>
          </a:xfrm>
          <a:prstGeom prst="rightArrow">
            <a:avLst>
              <a:gd name="adj1" fmla="val 50000"/>
              <a:gd name="adj2" fmla="val 50044"/>
            </a:avLst>
          </a:prstGeom>
          <a:gradFill rotWithShape="0">
            <a:gsLst>
              <a:gs pos="0">
                <a:srgbClr val="99ffcc"/>
              </a:gs>
              <a:gs pos="100000">
                <a:srgbClr val="00ff00"/>
              </a:gs>
            </a:gsLst>
            <a:lin ang="5400000"/>
          </a:gradFill>
          <a:ln w="28440">
            <a:solidFill>
              <a:srgbClr val="000000"/>
            </a:solidFill>
            <a:round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テキスト ボックス 7"/>
          <p:cNvSpPr/>
          <p:nvPr/>
        </p:nvSpPr>
        <p:spPr>
          <a:xfrm>
            <a:off x="5145120" y="3840120"/>
            <a:ext cx="3352680" cy="63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gnal Name =&gt; Signal Name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,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ex.)  cnt_num =&gt; cnt_num,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Oval 10"/>
          <p:cNvSpPr/>
          <p:nvPr/>
        </p:nvSpPr>
        <p:spPr>
          <a:xfrm>
            <a:off x="1066680" y="4159080"/>
            <a:ext cx="160020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Edit file (.VHD)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pic>
        <p:nvPicPr>
          <p:cNvPr id="208" name="コンテンツ プレースホルダー 5" descr=""/>
          <p:cNvPicPr/>
          <p:nvPr/>
        </p:nvPicPr>
        <p:blipFill>
          <a:blip r:embed="rId1"/>
          <a:stretch/>
        </p:blipFill>
        <p:spPr>
          <a:xfrm>
            <a:off x="666720" y="1676520"/>
            <a:ext cx="7094520" cy="4171680"/>
          </a:xfrm>
          <a:prstGeom prst="rect">
            <a:avLst/>
          </a:prstGeom>
          <a:ln w="0">
            <a:noFill/>
          </a:ln>
        </p:spPr>
      </p:pic>
      <p:sp>
        <p:nvSpPr>
          <p:cNvPr id="209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1E196-B86E-452A-B1D8-53D288FE83DD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円/楕円 6"/>
          <p:cNvSpPr/>
          <p:nvPr/>
        </p:nvSpPr>
        <p:spPr>
          <a:xfrm>
            <a:off x="915840" y="4343400"/>
            <a:ext cx="2438640" cy="1371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右矢印 6"/>
          <p:cNvSpPr/>
          <p:nvPr/>
        </p:nvSpPr>
        <p:spPr>
          <a:xfrm rot="10800000">
            <a:off x="3505320" y="4809600"/>
            <a:ext cx="1218960" cy="304920"/>
          </a:xfrm>
          <a:prstGeom prst="rightArrow">
            <a:avLst>
              <a:gd name="adj1" fmla="val 50000"/>
              <a:gd name="adj2" fmla="val 49970"/>
            </a:avLst>
          </a:prstGeom>
          <a:gradFill rotWithShape="0">
            <a:gsLst>
              <a:gs pos="0">
                <a:srgbClr val="99ffcc"/>
              </a:gs>
              <a:gs pos="100000">
                <a:srgbClr val="00ff00"/>
              </a:gs>
            </a:gsLst>
            <a:lin ang="5400000"/>
          </a:gradFill>
          <a:ln w="28440">
            <a:solidFill>
              <a:srgbClr val="000000"/>
            </a:solidFill>
            <a:round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テキスト ボックス 7"/>
          <p:cNvSpPr/>
          <p:nvPr/>
        </p:nvSpPr>
        <p:spPr>
          <a:xfrm>
            <a:off x="4952880" y="4792680"/>
            <a:ext cx="262908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uit Descrip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82760" y="1599840"/>
            <a:ext cx="81784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nd Import Periph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図 1" descr=""/>
          <p:cNvPicPr/>
          <p:nvPr/>
        </p:nvPicPr>
        <p:blipFill>
          <a:blip r:embed="rId1"/>
          <a:stretch/>
        </p:blipFill>
        <p:spPr>
          <a:xfrm>
            <a:off x="657360" y="2263680"/>
            <a:ext cx="7327800" cy="403884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17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4A47C-2FF0-4FFB-A353-D7D3DCFC2310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Oval 10"/>
          <p:cNvSpPr/>
          <p:nvPr/>
        </p:nvSpPr>
        <p:spPr>
          <a:xfrm>
            <a:off x="1447920" y="2685960"/>
            <a:ext cx="145728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Oval 10"/>
          <p:cNvSpPr/>
          <p:nvPr/>
        </p:nvSpPr>
        <p:spPr>
          <a:xfrm>
            <a:off x="1512720" y="2309760"/>
            <a:ext cx="6192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558360" y="14479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he Next button in Left fig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Import existing peripheral and Click the Next button in Right fig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23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0B93F-A3EC-48D5-A4B8-E2643C879F7E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76320" y="2743200"/>
            <a:ext cx="4383000" cy="3657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e574e"/>
            </a:outerShdw>
          </a:effectLst>
        </p:spPr>
      </p:pic>
      <p:sp>
        <p:nvSpPr>
          <p:cNvPr id="226" name="Oval 10"/>
          <p:cNvSpPr/>
          <p:nvPr/>
        </p:nvSpPr>
        <p:spPr>
          <a:xfrm>
            <a:off x="7924680" y="6095880"/>
            <a:ext cx="6480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Oval 10"/>
          <p:cNvSpPr/>
          <p:nvPr/>
        </p:nvSpPr>
        <p:spPr>
          <a:xfrm>
            <a:off x="3352680" y="6107040"/>
            <a:ext cx="6480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8" name="Picture 3" descr=""/>
          <p:cNvPicPr/>
          <p:nvPr/>
        </p:nvPicPr>
        <p:blipFill>
          <a:blip r:embed="rId2"/>
          <a:stretch/>
        </p:blipFill>
        <p:spPr>
          <a:xfrm>
            <a:off x="4648320" y="2743200"/>
            <a:ext cx="4383000" cy="3657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e574e"/>
            </a:outerShdw>
          </a:effectLst>
        </p:spPr>
      </p:pic>
      <p:sp>
        <p:nvSpPr>
          <p:cNvPr id="229" name="Oval 10"/>
          <p:cNvSpPr/>
          <p:nvPr/>
        </p:nvSpPr>
        <p:spPr>
          <a:xfrm>
            <a:off x="6095880" y="3848040"/>
            <a:ext cx="1295640" cy="114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図 2" descr=""/>
          <p:cNvPicPr/>
          <p:nvPr/>
        </p:nvPicPr>
        <p:blipFill>
          <a:blip r:embed="rId1"/>
          <a:stretch/>
        </p:blipFill>
        <p:spPr>
          <a:xfrm>
            <a:off x="4800600" y="2778120"/>
            <a:ext cx="4086360" cy="353844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32" name="フッター プレースホルダー 3"/>
          <p:cNvSpPr/>
          <p:nvPr/>
        </p:nvSpPr>
        <p:spPr>
          <a:xfrm>
            <a:off x="2301840" y="6335640"/>
            <a:ext cx="453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09AA3-76CA-4E3C-BA7B-BD8B16776DFE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2"/>
          <a:stretch/>
        </p:blipFill>
        <p:spPr>
          <a:xfrm>
            <a:off x="152280" y="2627280"/>
            <a:ext cx="4418280" cy="38401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"/>
          <p:cNvPicPr/>
          <p:nvPr/>
        </p:nvPicPr>
        <p:blipFill>
          <a:blip r:embed="rId3"/>
          <a:stretch/>
        </p:blipFill>
        <p:spPr>
          <a:xfrm>
            <a:off x="6524640" y="914400"/>
            <a:ext cx="2610000" cy="1087560"/>
          </a:xfrm>
          <a:prstGeom prst="rect">
            <a:avLst/>
          </a:prstGeom>
          <a:ln w="0">
            <a:noFill/>
          </a:ln>
        </p:spPr>
      </p:pic>
      <p:sp>
        <p:nvSpPr>
          <p:cNvPr id="236" name="下矢印 2"/>
          <p:cNvSpPr/>
          <p:nvPr/>
        </p:nvSpPr>
        <p:spPr>
          <a:xfrm rot="10800000">
            <a:off x="7619760" y="2099880"/>
            <a:ext cx="533160" cy="700200"/>
          </a:xfrm>
          <a:prstGeom prst="downArrow">
            <a:avLst>
              <a:gd name="adj1" fmla="val 50000"/>
              <a:gd name="adj2" fmla="val 50057"/>
            </a:avLst>
          </a:prstGeom>
          <a:gradFill rotWithShape="0">
            <a:gsLst>
              <a:gs pos="0">
                <a:srgbClr val="99ffcc"/>
              </a:gs>
              <a:gs pos="100000">
                <a:srgbClr val="00ff00"/>
              </a:gs>
            </a:gsLst>
            <a:lin ang="5400000"/>
          </a:gradFill>
          <a:ln w="28440">
            <a:solidFill>
              <a:srgbClr val="000000"/>
            </a:solidFill>
            <a:round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Oval 10"/>
          <p:cNvSpPr/>
          <p:nvPr/>
        </p:nvSpPr>
        <p:spPr>
          <a:xfrm>
            <a:off x="3448080" y="6208560"/>
            <a:ext cx="64764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Oval 10"/>
          <p:cNvSpPr/>
          <p:nvPr/>
        </p:nvSpPr>
        <p:spPr>
          <a:xfrm>
            <a:off x="5181480" y="3567240"/>
            <a:ext cx="6480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Oval 10"/>
          <p:cNvSpPr/>
          <p:nvPr/>
        </p:nvSpPr>
        <p:spPr>
          <a:xfrm>
            <a:off x="7296120" y="1676520"/>
            <a:ext cx="64764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Oval 10"/>
          <p:cNvSpPr/>
          <p:nvPr/>
        </p:nvSpPr>
        <p:spPr>
          <a:xfrm>
            <a:off x="7886880" y="5979960"/>
            <a:ext cx="64764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33160" y="12790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he Next button in Left figu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 Left figure, Select the name which you make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 peripheral, and Click the Next butt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pper right figure is displayed on the screen, and Click the yes butt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11360" y="1405080"/>
            <a:ext cx="7721280" cy="64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The Main Flow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ipheral Templ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it file(.MPD, .VHD, .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ort Periph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フッター プレースホルダー 3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スライド番号プレースホルダー 4"/>
          <p:cNvSpPr/>
          <p:nvPr/>
        </p:nvSpPr>
        <p:spPr>
          <a:xfrm>
            <a:off x="713592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FC4E8-FF7E-4ED3-B96B-858CCDA91D4C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he Next butt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EBA0C-0C5F-44F2-A51D-58515AA580CD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5172120" cy="44960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e574e"/>
            </a:outerShdw>
          </a:effectLst>
        </p:spPr>
      </p:pic>
      <p:sp>
        <p:nvSpPr>
          <p:cNvPr id="247" name="Oval 10"/>
          <p:cNvSpPr/>
          <p:nvPr/>
        </p:nvSpPr>
        <p:spPr>
          <a:xfrm>
            <a:off x="5867280" y="6114960"/>
            <a:ext cx="6480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図 1" descr=""/>
          <p:cNvPicPr/>
          <p:nvPr/>
        </p:nvPicPr>
        <p:blipFill>
          <a:blip r:embed="rId1"/>
          <a:stretch/>
        </p:blipFill>
        <p:spPr>
          <a:xfrm>
            <a:off x="4572000" y="2724120"/>
            <a:ext cx="4183200" cy="379116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DL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nguage to implement your peripheral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　→　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x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eck Use existing Periphral Analysis Order file (*pao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owse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ect \your working folder/pcores/Name_v1_00_a/data/PAO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1EF0F-9878-4B79-B055-CB955314C9A6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3" name="Picture 3" descr=""/>
          <p:cNvPicPr/>
          <p:nvPr/>
        </p:nvPicPr>
        <p:blipFill>
          <a:blip r:embed="rId2"/>
          <a:stretch/>
        </p:blipFill>
        <p:spPr>
          <a:xfrm>
            <a:off x="112680" y="2720880"/>
            <a:ext cx="4295880" cy="3733920"/>
          </a:xfrm>
          <a:prstGeom prst="rect">
            <a:avLst/>
          </a:prstGeom>
          <a:ln w="0">
            <a:noFill/>
          </a:ln>
        </p:spPr>
      </p:pic>
      <p:sp>
        <p:nvSpPr>
          <p:cNvPr id="254" name="Oval 10"/>
          <p:cNvSpPr/>
          <p:nvPr/>
        </p:nvSpPr>
        <p:spPr>
          <a:xfrm>
            <a:off x="1639800" y="3200400"/>
            <a:ext cx="62064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Oval 10"/>
          <p:cNvSpPr/>
          <p:nvPr/>
        </p:nvSpPr>
        <p:spPr>
          <a:xfrm>
            <a:off x="177840" y="4952880"/>
            <a:ext cx="184788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Oval 10"/>
          <p:cNvSpPr/>
          <p:nvPr/>
        </p:nvSpPr>
        <p:spPr>
          <a:xfrm>
            <a:off x="3606840" y="5106960"/>
            <a:ext cx="6858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下矢印 10"/>
          <p:cNvSpPr/>
          <p:nvPr/>
        </p:nvSpPr>
        <p:spPr>
          <a:xfrm rot="16200000">
            <a:off x="4552920" y="4849560"/>
            <a:ext cx="342720" cy="777960"/>
          </a:xfrm>
          <a:prstGeom prst="downArrow">
            <a:avLst>
              <a:gd name="adj1" fmla="val 50000"/>
              <a:gd name="adj2" fmla="val 49981"/>
            </a:avLst>
          </a:prstGeom>
          <a:gradFill rotWithShape="0">
            <a:gsLst>
              <a:gs pos="0">
                <a:srgbClr val="99ffcc"/>
              </a:gs>
              <a:gs pos="100000">
                <a:srgbClr val="00ff00"/>
              </a:gs>
            </a:gsLst>
            <a:lin ang="5400000"/>
          </a:gradFill>
          <a:ln w="28440">
            <a:solidFill>
              <a:srgbClr val="000000"/>
            </a:solidFill>
            <a:round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Oval 10"/>
          <p:cNvSpPr/>
          <p:nvPr/>
        </p:nvSpPr>
        <p:spPr>
          <a:xfrm>
            <a:off x="7601040" y="5886360"/>
            <a:ext cx="64764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60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1A0E6-F6F9-4587-8285-181BD980E819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2300400" y="2819520"/>
            <a:ext cx="4295520" cy="37335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e574e"/>
            </a:outerShdw>
          </a:effectLst>
        </p:spPr>
      </p:pic>
      <p:sp>
        <p:nvSpPr>
          <p:cNvPr id="263" name="Oval 10"/>
          <p:cNvSpPr/>
          <p:nvPr/>
        </p:nvSpPr>
        <p:spPr>
          <a:xfrm>
            <a:off x="5562720" y="6243480"/>
            <a:ext cx="64764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he Next button, and the grammar of renewed file will be check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failed, errors are displayed on the screen. It points out where you make errors.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Selecting Slave of AXI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te, Click the Next button in Left fig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he Next button in Right fig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図 2" descr=""/>
          <p:cNvPicPr/>
          <p:nvPr/>
        </p:nvPicPr>
        <p:blipFill>
          <a:blip r:embed="rId1"/>
          <a:stretch/>
        </p:blipFill>
        <p:spPr>
          <a:xfrm>
            <a:off x="4648320" y="2706840"/>
            <a:ext cx="3987720" cy="3757320"/>
          </a:xfrm>
          <a:prstGeom prst="rect">
            <a:avLst/>
          </a:prstGeom>
          <a:ln w="0">
            <a:noFill/>
          </a:ln>
        </p:spPr>
      </p:pic>
      <p:pic>
        <p:nvPicPr>
          <p:cNvPr id="267" name="図 1" descr=""/>
          <p:cNvPicPr/>
          <p:nvPr/>
        </p:nvPicPr>
        <p:blipFill>
          <a:blip r:embed="rId2"/>
          <a:stretch/>
        </p:blipFill>
        <p:spPr>
          <a:xfrm>
            <a:off x="477720" y="2654280"/>
            <a:ext cx="4024440" cy="378792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69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93046-8DC3-4E64-A94E-24797AA1F117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Oval 10"/>
          <p:cNvSpPr/>
          <p:nvPr/>
        </p:nvSpPr>
        <p:spPr>
          <a:xfrm>
            <a:off x="7620120" y="6167520"/>
            <a:ext cx="64764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Oval 10"/>
          <p:cNvSpPr/>
          <p:nvPr/>
        </p:nvSpPr>
        <p:spPr>
          <a:xfrm>
            <a:off x="609480" y="3543480"/>
            <a:ext cx="838440" cy="495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634680" y="153684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ter Selecting C_HIGHADDR of Parameter determine high adress, Click the Next button in Left fig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he Next button in Right fig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図 2" descr=""/>
          <p:cNvPicPr/>
          <p:nvPr/>
        </p:nvPicPr>
        <p:blipFill>
          <a:blip r:embed="rId1"/>
          <a:stretch/>
        </p:blipFill>
        <p:spPr>
          <a:xfrm>
            <a:off x="4572000" y="2532240"/>
            <a:ext cx="3897360" cy="3657600"/>
          </a:xfrm>
          <a:prstGeom prst="rect">
            <a:avLst/>
          </a:prstGeom>
          <a:ln w="0">
            <a:noFill/>
          </a:ln>
        </p:spPr>
      </p:pic>
      <p:pic>
        <p:nvPicPr>
          <p:cNvPr id="275" name="図 1" descr=""/>
          <p:cNvPicPr/>
          <p:nvPr/>
        </p:nvPicPr>
        <p:blipFill>
          <a:blip r:embed="rId2"/>
          <a:stretch/>
        </p:blipFill>
        <p:spPr>
          <a:xfrm>
            <a:off x="457200" y="2590920"/>
            <a:ext cx="4038480" cy="380988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77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5CC98-1452-4E39-9F7C-8EFE5AEE62F4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Oval 10"/>
          <p:cNvSpPr/>
          <p:nvPr/>
        </p:nvSpPr>
        <p:spPr>
          <a:xfrm>
            <a:off x="7162920" y="5938920"/>
            <a:ext cx="121896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Oval 10"/>
          <p:cNvSpPr/>
          <p:nvPr/>
        </p:nvSpPr>
        <p:spPr>
          <a:xfrm>
            <a:off x="2133720" y="3622680"/>
            <a:ext cx="213336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図 1" descr=""/>
          <p:cNvPicPr/>
          <p:nvPr/>
        </p:nvPicPr>
        <p:blipFill>
          <a:blip r:embed="rId1"/>
          <a:stretch/>
        </p:blipFill>
        <p:spPr>
          <a:xfrm>
            <a:off x="1886040" y="2031840"/>
            <a:ext cx="4228920" cy="400536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80520" y="13712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he Next butt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DDB18-F1EA-46B7-9B4E-3835EC12DCBB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Oval 10"/>
          <p:cNvSpPr/>
          <p:nvPr/>
        </p:nvSpPr>
        <p:spPr>
          <a:xfrm>
            <a:off x="4987800" y="5761080"/>
            <a:ext cx="6480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he Finish butt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42FE2-2FC9-4CDA-9A7A-F03B851E398D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1" name="図 1" descr=""/>
          <p:cNvPicPr/>
          <p:nvPr/>
        </p:nvPicPr>
        <p:blipFill>
          <a:blip r:embed="rId1"/>
          <a:stretch/>
        </p:blipFill>
        <p:spPr>
          <a:xfrm>
            <a:off x="2181240" y="2057400"/>
            <a:ext cx="4591080" cy="3986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図 1" descr=""/>
          <p:cNvPicPr/>
          <p:nvPr/>
        </p:nvPicPr>
        <p:blipFill>
          <a:blip r:embed="rId1"/>
          <a:stretch/>
        </p:blipFill>
        <p:spPr>
          <a:xfrm>
            <a:off x="1954080" y="2286000"/>
            <a:ext cx="4230720" cy="358128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94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F2722-93F1-4E6D-BB1D-95AEE5053E45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Oval 10"/>
          <p:cNvSpPr/>
          <p:nvPr/>
        </p:nvSpPr>
        <p:spPr>
          <a:xfrm>
            <a:off x="2120760" y="4648320"/>
            <a:ext cx="6480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d IP is displayed on the scre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99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6653D-383C-4CED-9206-333F6BDD4A40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正方形/長方形 5"/>
          <p:cNvSpPr/>
          <p:nvPr/>
        </p:nvSpPr>
        <p:spPr>
          <a:xfrm>
            <a:off x="711360" y="1882800"/>
            <a:ext cx="5333760" cy="117000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正方形/長方形 6"/>
          <p:cNvSpPr/>
          <p:nvPr/>
        </p:nvSpPr>
        <p:spPr>
          <a:xfrm>
            <a:off x="762120" y="1882800"/>
            <a:ext cx="563868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ORT iptobus_DATA = "", DIR = I, VEC = [(C_SLV_DWIDTH-1):0], ENDIAN = LITTLE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ORT Rd_ACK = "", DIR = I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ORT Wr_ACK = "", DIR = I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ORT bustoip_DATA = "", DIR = O, VEC = [(C_SLV_DWIDTH-1):0], ENDIAN = LITTLE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ORT Rd_EN = "", DIR = O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ORT Wr_EN = "", DIR = O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テキスト ボックス 11"/>
          <p:cNvSpPr/>
          <p:nvPr/>
        </p:nvSpPr>
        <p:spPr>
          <a:xfrm>
            <a:off x="715320" y="1509840"/>
            <a:ext cx="148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 MPD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正方形/長方形 8"/>
          <p:cNvSpPr/>
          <p:nvPr/>
        </p:nvSpPr>
        <p:spPr>
          <a:xfrm>
            <a:off x="711360" y="4962600"/>
            <a:ext cx="2474640" cy="117000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テキスト ボックス 12"/>
          <p:cNvSpPr/>
          <p:nvPr/>
        </p:nvSpPr>
        <p:spPr>
          <a:xfrm>
            <a:off x="716400" y="3144960"/>
            <a:ext cx="17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 test.vhd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正方形/長方形 10"/>
          <p:cNvSpPr/>
          <p:nvPr/>
        </p:nvSpPr>
        <p:spPr>
          <a:xfrm>
            <a:off x="711360" y="4987800"/>
            <a:ext cx="321300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ptobus_DATA        =&gt; iptobus_DATA,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d_ACK              =&gt; Rd_ACK,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r_ACK              =&gt; Wr_ACK,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toip_DATA        =&gt; bustoip_DATA,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d_EN               =&gt; Rd_EN,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r_EN               =&gt; Wr_EN,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正方形/長方形 12"/>
          <p:cNvSpPr/>
          <p:nvPr/>
        </p:nvSpPr>
        <p:spPr>
          <a:xfrm>
            <a:off x="711360" y="3514680"/>
            <a:ext cx="6908760" cy="128592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正方形/長方形 13"/>
          <p:cNvSpPr/>
          <p:nvPr/>
        </p:nvSpPr>
        <p:spPr>
          <a:xfrm>
            <a:off x="762120" y="3514680"/>
            <a:ext cx="563868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ptobus_DATA                    : in  std_logic_vector(C_SLV_DWIDTH-1 downto 0)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d_ACK                          : in  std_logic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r_ACK                          : in  std_logic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toip_DATA                    : out  std_logic_vector(C_SLV_DWIDTH-1 downto 0)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d_EN                           : out  std_logic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r_EN                           : out  std_logic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310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AAA64-BDC5-470F-AF44-0D3EA2953F06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正方形/長方形 5"/>
          <p:cNvSpPr/>
          <p:nvPr/>
        </p:nvSpPr>
        <p:spPr>
          <a:xfrm>
            <a:off x="685800" y="2060640"/>
            <a:ext cx="532296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ptobus_DATA                    : in  std_logic_vector(C_SLV_DWIDTH-1 downto 0)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d_ACK                          : in  std_logic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r_ACK                          : in  std_logic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toip_DATA                    : out  std_logic_vector(C_SLV_DWIDTH-1 downto 0)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d_EN                           : out  std_logic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r_EN                           : out  std_logic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正方形/長方形 6"/>
          <p:cNvSpPr/>
          <p:nvPr/>
        </p:nvSpPr>
        <p:spPr>
          <a:xfrm>
            <a:off x="674640" y="2057400"/>
            <a:ext cx="5334120" cy="137160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テキスト ボックス 12"/>
          <p:cNvSpPr/>
          <p:nvPr/>
        </p:nvSpPr>
        <p:spPr>
          <a:xfrm>
            <a:off x="558720" y="168768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 user_logic.vhd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正方形/長方形 8"/>
          <p:cNvSpPr/>
          <p:nvPr/>
        </p:nvSpPr>
        <p:spPr>
          <a:xfrm>
            <a:off x="849240" y="3772080"/>
            <a:ext cx="4572000" cy="15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P2Bus_Data  &lt;= iptobus_DATA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P2Bus_WrAck &lt;= Wr_ACK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P2Bus_RdAck &lt;= Rd_ACK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P2Bus_Error &lt;= '0'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toip_DATA &lt;= Bus2IP_Data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d_EN &lt;= Bus2IP_RdCE(0)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r_EN &lt;= Bus2IP_WrCE(0)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正方形/長方形 9"/>
          <p:cNvSpPr/>
          <p:nvPr/>
        </p:nvSpPr>
        <p:spPr>
          <a:xfrm>
            <a:off x="838080" y="3733920"/>
            <a:ext cx="5562720" cy="168732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テキスト ボックス 12"/>
          <p:cNvSpPr/>
          <p:nvPr/>
        </p:nvSpPr>
        <p:spPr>
          <a:xfrm>
            <a:off x="5241240" y="3803760"/>
            <a:ext cx="2318760" cy="69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ser_logic.vhd fil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Circuit Descriptio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533160" y="15235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nd Import Periph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reate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pic>
        <p:nvPicPr>
          <p:cNvPr id="104" name="図 1" descr=""/>
          <p:cNvPicPr/>
          <p:nvPr/>
        </p:nvPicPr>
        <p:blipFill>
          <a:blip r:embed="rId1"/>
          <a:stretch/>
        </p:blipFill>
        <p:spPr>
          <a:xfrm>
            <a:off x="1219320" y="2155680"/>
            <a:ext cx="6775200" cy="3733920"/>
          </a:xfrm>
          <a:prstGeom prst="rect">
            <a:avLst/>
          </a:prstGeom>
          <a:ln w="0">
            <a:noFill/>
          </a:ln>
        </p:spPr>
      </p:pic>
      <p:sp>
        <p:nvSpPr>
          <p:cNvPr id="105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FC49C-6EBD-4409-BA21-99C9EADA9A8A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10"/>
          <p:cNvSpPr/>
          <p:nvPr/>
        </p:nvSpPr>
        <p:spPr>
          <a:xfrm>
            <a:off x="1905120" y="2552760"/>
            <a:ext cx="145728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Oval 10"/>
          <p:cNvSpPr/>
          <p:nvPr/>
        </p:nvSpPr>
        <p:spPr>
          <a:xfrm>
            <a:off x="1905120" y="2263680"/>
            <a:ext cx="61884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reate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he Next button in Left fig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he Next button in Right fig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F5FC6-A663-4E34-AA5F-5EBA708F0B56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52280" y="2666880"/>
            <a:ext cx="4340520" cy="3772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e574e"/>
            </a:outerShdw>
          </a:effectLst>
        </p:spPr>
      </p:pic>
      <p:sp>
        <p:nvSpPr>
          <p:cNvPr id="114" name="Oval 10"/>
          <p:cNvSpPr/>
          <p:nvPr/>
        </p:nvSpPr>
        <p:spPr>
          <a:xfrm>
            <a:off x="3352680" y="6175440"/>
            <a:ext cx="6858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572000" y="2639880"/>
            <a:ext cx="4400640" cy="3826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e574e"/>
            </a:outerShdw>
          </a:effectLst>
        </p:spPr>
      </p:pic>
      <p:sp>
        <p:nvSpPr>
          <p:cNvPr id="116" name="Oval 10"/>
          <p:cNvSpPr/>
          <p:nvPr/>
        </p:nvSpPr>
        <p:spPr>
          <a:xfrm>
            <a:off x="7848720" y="6159600"/>
            <a:ext cx="6858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Oval 10"/>
          <p:cNvSpPr/>
          <p:nvPr/>
        </p:nvSpPr>
        <p:spPr>
          <a:xfrm>
            <a:off x="6086520" y="3581280"/>
            <a:ext cx="145728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2" descr="F:\document\LSI_CONTEST\ペリフェラル\ペリフェラル作成5.png"/>
          <p:cNvPicPr/>
          <p:nvPr/>
        </p:nvPicPr>
        <p:blipFill>
          <a:blip r:embed="rId1"/>
          <a:stretch/>
        </p:blipFill>
        <p:spPr>
          <a:xfrm>
            <a:off x="4633920" y="2743200"/>
            <a:ext cx="4457520" cy="36831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reate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an XPS project and Click the Next button in left fig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ter the name of the peripheral and Click the Next button in Right fig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6293A-30F6-4C90-9918-A3214122542E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71280" y="2743200"/>
            <a:ext cx="4470480" cy="3657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e574e"/>
            </a:outerShdw>
          </a:effectLst>
        </p:spPr>
      </p:pic>
      <p:sp>
        <p:nvSpPr>
          <p:cNvPr id="124" name="Oval 10"/>
          <p:cNvSpPr/>
          <p:nvPr/>
        </p:nvSpPr>
        <p:spPr>
          <a:xfrm>
            <a:off x="128520" y="4022640"/>
            <a:ext cx="106704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Oval 10"/>
          <p:cNvSpPr/>
          <p:nvPr/>
        </p:nvSpPr>
        <p:spPr>
          <a:xfrm>
            <a:off x="7975440" y="6137280"/>
            <a:ext cx="6858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Oval 10"/>
          <p:cNvSpPr/>
          <p:nvPr/>
        </p:nvSpPr>
        <p:spPr>
          <a:xfrm>
            <a:off x="4800600" y="3429000"/>
            <a:ext cx="9144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0"/>
          <p:cNvSpPr/>
          <p:nvPr/>
        </p:nvSpPr>
        <p:spPr>
          <a:xfrm>
            <a:off x="3429000" y="6083280"/>
            <a:ext cx="6858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4" descr="F:\document\LSI_CONTEST\ペリフェラル\ペリフェラル作成6.png"/>
          <p:cNvPicPr/>
          <p:nvPr/>
        </p:nvPicPr>
        <p:blipFill>
          <a:blip r:embed="rId1"/>
          <a:stretch/>
        </p:blipFill>
        <p:spPr>
          <a:xfrm>
            <a:off x="249120" y="2714760"/>
            <a:ext cx="4214880" cy="36795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reate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30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A7421-13E6-48E2-86F3-29187C685178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Oval 10"/>
          <p:cNvSpPr/>
          <p:nvPr/>
        </p:nvSpPr>
        <p:spPr>
          <a:xfrm>
            <a:off x="380880" y="3263760"/>
            <a:ext cx="121932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Oval 10"/>
          <p:cNvSpPr/>
          <p:nvPr/>
        </p:nvSpPr>
        <p:spPr>
          <a:xfrm>
            <a:off x="3352680" y="6056280"/>
            <a:ext cx="68580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図 1" descr=""/>
          <p:cNvPicPr/>
          <p:nvPr/>
        </p:nvPicPr>
        <p:blipFill>
          <a:blip r:embed="rId2"/>
          <a:stretch/>
        </p:blipFill>
        <p:spPr>
          <a:xfrm>
            <a:off x="4562640" y="2689200"/>
            <a:ext cx="4259160" cy="3695760"/>
          </a:xfrm>
          <a:prstGeom prst="rect">
            <a:avLst/>
          </a:prstGeom>
          <a:ln w="0">
            <a:noFill/>
          </a:ln>
        </p:spPr>
      </p:pic>
      <p:sp>
        <p:nvSpPr>
          <p:cNvPr id="135" name="Oval 10"/>
          <p:cNvSpPr/>
          <p:nvPr/>
        </p:nvSpPr>
        <p:spPr>
          <a:xfrm>
            <a:off x="6600960" y="4863960"/>
            <a:ext cx="106668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10"/>
          <p:cNvSpPr/>
          <p:nvPr/>
        </p:nvSpPr>
        <p:spPr>
          <a:xfrm>
            <a:off x="7696080" y="6054840"/>
            <a:ext cx="68580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33520" y="1413000"/>
            <a:ext cx="853416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XI-4Lite and Click the Next button in Left fig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Include data phase timer and Click the Next button in Right fig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533160" y="1413000"/>
            <a:ext cx="838188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he Next butt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11" descr="F:\document\LSI_CONTEST\ペリフェラル\ペリフェラル作成9.png"/>
          <p:cNvPicPr/>
          <p:nvPr/>
        </p:nvPicPr>
        <p:blipFill>
          <a:blip r:embed="rId1"/>
          <a:stretch/>
        </p:blipFill>
        <p:spPr>
          <a:xfrm>
            <a:off x="2590920" y="2514600"/>
            <a:ext cx="4381560" cy="37879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reate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41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43D0F-EA3A-4AF2-83D7-63761243E6C8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Oval 10"/>
          <p:cNvSpPr/>
          <p:nvPr/>
        </p:nvSpPr>
        <p:spPr>
          <a:xfrm>
            <a:off x="5867280" y="5943600"/>
            <a:ext cx="68580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1" descr="F:\document\LSI_CONTEST\ペリフェラル\ペリフェラル作成10.png"/>
          <p:cNvPicPr/>
          <p:nvPr/>
        </p:nvPicPr>
        <p:blipFill>
          <a:blip r:embed="rId1"/>
          <a:stretch/>
        </p:blipFill>
        <p:spPr>
          <a:xfrm>
            <a:off x="228600" y="3124080"/>
            <a:ext cx="4400640" cy="33084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reate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46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67635-AB18-4BB0-8AB4-FFCD8748A9C4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2"/>
          <a:stretch/>
        </p:blipFill>
        <p:spPr>
          <a:xfrm>
            <a:off x="4648320" y="3124080"/>
            <a:ext cx="4416480" cy="3308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e574e"/>
            </a:outerShdw>
          </a:effectLst>
        </p:spPr>
      </p:pic>
      <p:sp>
        <p:nvSpPr>
          <p:cNvPr id="149" name="Oval 10"/>
          <p:cNvSpPr/>
          <p:nvPr/>
        </p:nvSpPr>
        <p:spPr>
          <a:xfrm>
            <a:off x="3505320" y="6081840"/>
            <a:ext cx="68580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Oval 10"/>
          <p:cNvSpPr/>
          <p:nvPr/>
        </p:nvSpPr>
        <p:spPr>
          <a:xfrm>
            <a:off x="7924680" y="6084720"/>
            <a:ext cx="68580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Oval 10"/>
          <p:cNvSpPr/>
          <p:nvPr/>
        </p:nvSpPr>
        <p:spPr>
          <a:xfrm>
            <a:off x="6019920" y="4076640"/>
            <a:ext cx="20970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he Next button in Left fig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he Next button in Right fig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99ff"/>
              </a:buClr>
              <a:buSzPct val="7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you write a program using Verilog, Check the top CheckBo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reate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he Finish butt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1187A-8CE1-4BC9-B10B-A437FAB9E7E7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Picture 7" descr="F:\document\LSI_CONTEST\ペリフェラル\ペリフェラル作成12.png"/>
          <p:cNvPicPr/>
          <p:nvPr/>
        </p:nvPicPr>
        <p:blipFill>
          <a:blip r:embed="rId1"/>
          <a:stretch/>
        </p:blipFill>
        <p:spPr>
          <a:xfrm>
            <a:off x="2311560" y="1994040"/>
            <a:ext cx="4825800" cy="41907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hiokawa</dc:creator>
  <dc:description/>
  <dc:language>en-US</dc:language>
  <cp:lastModifiedBy>whirata</cp:lastModifiedBy>
  <cp:lastPrinted>2012-09-28T04:19:07Z</cp:lastPrinted>
  <dcterms:modified xsi:type="dcterms:W3CDTF">2012-11-20T08:43:31Z</dcterms:modified>
  <cp:revision>8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