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A494-1CC4-4229-B121-515872BB9D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EC57-271A-4E0B-8F9C-D1C4574547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0F4C-03F3-424B-A48D-C855200FA7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C08-75E5-4ED7-937E-5A11059BA2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1555-55EB-401D-B7F5-4867B019B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6F2C-ACB1-4D2F-A8A4-6BD409549C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0B2B-EE63-49E2-B5E2-8208FD722E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6B2C-D005-471F-A91B-52172A7A74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9CF8-A7F8-44EA-9C94-9E909142D4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C1D-3CD8-40C2-AADA-B54A556A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766-350D-4012-AE46-C1F0FBF8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497-7FAF-48EE-B796-54A52C08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D40-5EDB-4336-9FC2-F3E079CA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0D64-E847-4DFB-BFB0-DDEFA874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5A1B-E482-4E26-AB6C-B8128200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32C7-718C-4F62-A9F4-8E4ED91E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D27C-467C-4EDA-BA04-8294573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C931-D7E0-43EB-AB0B-959ECB1E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6CDA-D223-47A4-8490-301E7EFA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39F9-1DCE-429A-B120-6D020D89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288-87C0-4745-AF0F-502494EC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0AA0-007C-4759-9B66-1562738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8130-2FDC-4949-BD37-14781CA7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FE87-F352-4661-B709-45ECA9A7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679D-A7AF-4B5E-B8D2-7A167950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173E-D7D3-4D06-95F3-F2213DBD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D8B-1E49-42DE-BCB4-54433BF9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155-30F3-4845-825B-F06400A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4B2-640A-4FA0-A6EE-25FD8066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A08-1E32-4B18-B876-2FD75466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172-14EE-473A-9DD4-1AF559EC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41A-724F-4F34-8476-07395360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372-BEBF-4D1E-9370-E8A0B0F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2ADB-A2F8-45A9-9D87-E8F013BE546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D151-B808-4A19-BD53-3518209930A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DAD8-6170-4698-A988-E83DE460F7E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作業中のフォル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5ADA-5A3C-4400-8035-88A4A9423A6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フォルダ名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4217-96A8-4D80-933A-DD239C4DF75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12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赤丸の部分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記述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A47D-A3C0-4BD3-8CBF-A0FD6599F0C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4006080" y="4178160"/>
            <a:ext cx="451476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例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下の手順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.vhd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E19C-9EE1-487D-B40E-AA7FC3BEE76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6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信号の追加（同じ内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8E8-E339-4BEE-B8C9-47B882FBFAA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3" name="テキスト ボックス 7"/>
          <p:cNvSpPr/>
          <p:nvPr/>
        </p:nvSpPr>
        <p:spPr>
          <a:xfrm>
            <a:off x="76320" y="4114800"/>
            <a:ext cx="55623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_vector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複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さらに編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BF60-6598-4343-86B4-552A1115FDF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5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0444-CD78-4627-B071-641E9965A1E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テキスト ボックス 7"/>
          <p:cNvSpPr/>
          <p:nvPr/>
        </p:nvSpPr>
        <p:spPr>
          <a:xfrm>
            <a:off x="5067360" y="4776840"/>
            <a:ext cx="19429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回路記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DA55-54CE-4BF3-B34C-86AB05DA211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existing 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チェックし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19E8-3D44-42A3-A03B-C5F931EDC88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76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4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6095880" y="3733920"/>
            <a:ext cx="1295640" cy="114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作った名前を選択後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、右上図が出ます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0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44BC-1953-4AA0-95AD-CC075292E91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4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主な流れ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てんぷ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927C-BE34-4326-9AE3-2D83C852BA8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EDF8-5EE8-4EE3-A833-D36137CFF0A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4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xisting Periphral Analysis Order file (*pao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チェ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作業フォル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cores/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名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v1_00_a/data/PAO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ファイルを選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7250-F951-4A39-BA3E-17958E3611A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1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そのま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で書き換えたファイルの文法チェックが始まり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失敗するとエラーが表示され、どこが悪いのか指摘してくれ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精度が悪い（一つのミスで何個もエラーが表示されることがある）のでできるだけ丁寧に書き換えを行ってくださ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5499-41EC-4995-8FFF-5CFDBD50FED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1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4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99DE-3E0B-44C1-B94B-EB085D8FAF2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determine high adress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_HIGHADD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2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335C-D05F-4E73-89DC-A33FABB7371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F4E-F679-4161-BD5E-E0BA90884E0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7D94-FA55-465C-9831-0C9449F92C2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更新され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表示され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8772-C66D-4BAC-8722-72715C90E9E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DC40-DD3D-435A-8E59-84E8D60DDA6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テキスト ボックス 11"/>
          <p:cNvSpPr/>
          <p:nvPr/>
        </p:nvSpPr>
        <p:spPr>
          <a:xfrm>
            <a:off x="944640" y="151596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テキスト ボックス 12"/>
          <p:cNvSpPr/>
          <p:nvPr/>
        </p:nvSpPr>
        <p:spPr>
          <a:xfrm>
            <a:off x="795960" y="31449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0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C727-4BB1-489A-BAEC-97C3EA51537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テキスト ボックス 12"/>
          <p:cNvSpPr/>
          <p:nvPr/>
        </p:nvSpPr>
        <p:spPr>
          <a:xfrm>
            <a:off x="577800" y="1687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299920" y="3803760"/>
            <a:ext cx="220140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回路記述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B8F9-68D2-4696-A04E-2532A12B050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D811-6C4A-47D1-8803-08B7966FD02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550960"/>
            <a:ext cx="4457520" cy="3875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====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名前を入力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111F-0BB9-4336-9F18-5DA6681F1A0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514600"/>
            <a:ext cx="4470480" cy="3886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52280" y="38098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8001000" y="607392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029200" y="32004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581280" y="61977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-4Li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選択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赤丸のチェックをつけて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D5BA-CE8E-4116-89DC-BF232150892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6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（必要な項目はチェッ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5443-02FE-434F-8B97-D39F9C2C6C1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log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書く場合は一番上をチェ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147A-3F12-47D7-9165-24496BAA11F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50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680C-14C8-42F9-8E94-72B74731BFA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dcterms:modified xsi:type="dcterms:W3CDTF">2012-11-20T08:42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